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A1DFBA-62DE-4C46-8E0C-F92EA3FD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8A3AF5-3540-4507-B4E6-2BB3BB4B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F7131D-0A2A-4D44-9C09-197FC799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5960"/>
            <a:ext cx="822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596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596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596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596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5960"/>
            <a:ext cx="264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596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596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5960"/>
            <a:ext cx="8229600" cy="25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711B8A38-CCB9-4EB7-AAF5-D91BBB614BBB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Developing a Web Applica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515600"/>
            <a:ext cx="8234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pulate with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Plug-ins in R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ak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43040" y="1523880"/>
            <a:ext cx="7066080" cy="44006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2"/>
          <p:cNvSpPr/>
          <p:nvPr/>
        </p:nvSpPr>
        <p:spPr>
          <a:xfrm flipH="1">
            <a:off x="1907280" y="3090960"/>
            <a:ext cx="211320" cy="609480"/>
          </a:xfrm>
          <a:custGeom>
            <a:avLst/>
            <a:gdLst>
              <a:gd name="textAreaLeft" fmla="*/ -360 w 211320"/>
              <a:gd name="textAreaRight" fmla="*/ 75960 w 211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147600" y="2976480"/>
            <a:ext cx="1776240" cy="8240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s to perform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ile and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erations are writte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R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.yml Fil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5640" y="1390680"/>
            <a:ext cx="7066080" cy="44006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2"/>
          <p:cNvSpPr/>
          <p:nvPr/>
        </p:nvSpPr>
        <p:spPr>
          <a:xfrm flipH="1">
            <a:off x="2161440" y="3086280"/>
            <a:ext cx="211320" cy="1571400"/>
          </a:xfrm>
          <a:custGeom>
            <a:avLst/>
            <a:gdLst>
              <a:gd name="textAreaLeft" fmla="*/ -360 w 211320"/>
              <a:gd name="textAreaRight" fmla="*/ 75960 w 211320"/>
              <a:gd name="textAreaTop" fmla="*/ 40680 h 1571400"/>
              <a:gd name="textAreaBottom" fmla="*/ 153072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4"/>
          <p:cNvSpPr/>
          <p:nvPr/>
        </p:nvSpPr>
        <p:spPr>
          <a:xfrm>
            <a:off x="74160" y="3541680"/>
            <a:ext cx="2059920" cy="6415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iguration informat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 the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igra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7040" y="1219320"/>
            <a:ext cx="7066080" cy="44002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2"/>
          <p:cNvSpPr/>
          <p:nvPr/>
        </p:nvSpPr>
        <p:spPr>
          <a:xfrm flipH="1">
            <a:off x="1915560" y="2390760"/>
            <a:ext cx="228600" cy="1028880"/>
          </a:xfrm>
          <a:custGeom>
            <a:avLst/>
            <a:gdLst>
              <a:gd name="textAreaLeft" fmla="*/ 0 w 228600"/>
              <a:gd name="textAreaRight" fmla="*/ 82440 w 22860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4"/>
          <p:cNvSpPr/>
          <p:nvPr/>
        </p:nvSpPr>
        <p:spPr>
          <a:xfrm>
            <a:off x="270360" y="2571840"/>
            <a:ext cx="1616400" cy="6415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hod contai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to create tabl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2"/>
          <p:cNvSpPr/>
          <p:nvPr/>
        </p:nvSpPr>
        <p:spPr>
          <a:xfrm flipH="1">
            <a:off x="1905120" y="3714840"/>
            <a:ext cx="210960" cy="571320"/>
          </a:xfrm>
          <a:custGeom>
            <a:avLst/>
            <a:gdLst>
              <a:gd name="textAreaLeft" fmla="*/ 360 w 210960"/>
              <a:gd name="textAreaRight" fmla="*/ 76320 w 210960"/>
              <a:gd name="textAreaTop" fmla="*/ 14760 h 571320"/>
              <a:gd name="textAreaBottom" fmla="*/ 556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07520" y="3675240"/>
            <a:ext cx="1486800" cy="6415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thod contain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to delet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bl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5880" y="57722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ke db:mig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Scaffold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47000" cy="43815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2"/>
          <p:cNvSpPr/>
          <p:nvPr/>
        </p:nvSpPr>
        <p:spPr>
          <a:xfrm rot="5400000">
            <a:off x="6419520" y="3524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10"/>
          <p:cNvGrpSpPr/>
          <p:nvPr/>
        </p:nvGrpSpPr>
        <p:grpSpPr>
          <a:xfrm>
            <a:off x="1504440" y="4152960"/>
            <a:ext cx="3978360" cy="407880"/>
            <a:chOff x="1504440" y="4152960"/>
            <a:chExt cx="3978360" cy="407880"/>
          </a:xfrm>
        </p:grpSpPr>
        <p:sp>
          <p:nvSpPr>
            <p:cNvPr id="69" name="Line 111"/>
            <p:cNvSpPr/>
            <p:nvPr/>
          </p:nvSpPr>
          <p:spPr>
            <a:xfrm flipH="1">
              <a:off x="1504440" y="4551120"/>
              <a:ext cx="397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2"/>
            <p:cNvSpPr/>
            <p:nvPr/>
          </p:nvSpPr>
          <p:spPr>
            <a:xfrm>
              <a:off x="1504800" y="4152960"/>
              <a:ext cx="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4"/>
          <p:cNvSpPr/>
          <p:nvPr/>
        </p:nvSpPr>
        <p:spPr>
          <a:xfrm>
            <a:off x="5419080" y="4214880"/>
            <a:ext cx="2233440" cy="6415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sic operations perform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 database entries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af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87160" y="5772240"/>
            <a:ext cx="46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ls generate scaffold scaffol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lug-I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7600" y="1238400"/>
            <a:ext cx="7047000" cy="4381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2"/>
          <p:cNvSpPr/>
          <p:nvPr/>
        </p:nvSpPr>
        <p:spPr>
          <a:xfrm>
            <a:off x="2895480" y="297180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3130200" y="3486240"/>
            <a:ext cx="2072160" cy="6415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nctionality implement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rough plug-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84520" y="577224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ls plugin inst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th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528480" y="1515960"/>
            <a:ext cx="815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le creating a database for an application using Ruby on Rails, which step do you think is the most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etween the Active Record and Action View, which do you think plays an important role while developing web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Software Manager</cp:lastModifiedBy>
  <dcterms:modified xsi:type="dcterms:W3CDTF">2010-11-29T19:55:20Z</dcterms:modified>
  <cp:revision>43</cp:revision>
  <dc:subject>Courseware Resource Supplement</dc:subject>
  <dc:title>PPT Visuals Template</dc:title>
</cp:coreProperties>
</file>