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9FD81F1-E35A-4CE9-A141-991AA9943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AE86E7B-61D6-4A87-B839-8F0601972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EF36040-4216-46FC-B0E3-95E0E6571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owerPoint Backgrou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4 - </a:t>
            </a:r>
            <a:fld id="{4891B64F-D44A-4D17-B82F-5346E39DA1FF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360" y="6551640"/>
            <a:ext cx="364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c4c4"/>
                </a:solidFill>
                <a:latin typeface="Arial"/>
              </a:rPr>
              <a:t>Copyright © 2010 Element K Content LL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Getting Started with Rail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8480" y="1515600"/>
            <a:ext cx="823464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to the Rails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Rails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MVC Architectur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90640" y="3124080"/>
            <a:ext cx="1490760" cy="380880"/>
            <a:chOff x="890640" y="3124080"/>
            <a:chExt cx="1490760" cy="380880"/>
          </a:xfrm>
        </p:grpSpPr>
        <p:sp>
          <p:nvSpPr>
            <p:cNvPr id="52" name=""/>
            <p:cNvSpPr/>
            <p:nvPr/>
          </p:nvSpPr>
          <p:spPr>
            <a:xfrm>
              <a:off x="1103400" y="3124080"/>
              <a:ext cx="106668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37"/>
            <p:cNvSpPr/>
            <p:nvPr/>
          </p:nvSpPr>
          <p:spPr>
            <a:xfrm>
              <a:off x="890640" y="3162240"/>
              <a:ext cx="14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786120" y="3124080"/>
            <a:ext cx="1490760" cy="380880"/>
            <a:chOff x="3786120" y="3124080"/>
            <a:chExt cx="1490760" cy="380880"/>
          </a:xfrm>
        </p:grpSpPr>
        <p:sp>
          <p:nvSpPr>
            <p:cNvPr id="55" name=""/>
            <p:cNvSpPr/>
            <p:nvPr/>
          </p:nvSpPr>
          <p:spPr>
            <a:xfrm>
              <a:off x="3998880" y="3124080"/>
              <a:ext cx="106704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37"/>
            <p:cNvSpPr/>
            <p:nvPr/>
          </p:nvSpPr>
          <p:spPr>
            <a:xfrm>
              <a:off x="3786120" y="3162240"/>
              <a:ext cx="14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81960" y="3124080"/>
            <a:ext cx="1490400" cy="381240"/>
            <a:chOff x="6681960" y="3124080"/>
            <a:chExt cx="1490400" cy="381240"/>
          </a:xfrm>
        </p:grpSpPr>
        <p:sp>
          <p:nvSpPr>
            <p:cNvPr id="58" name=""/>
            <p:cNvSpPr/>
            <p:nvPr/>
          </p:nvSpPr>
          <p:spPr>
            <a:xfrm>
              <a:off x="6894360" y="3124080"/>
              <a:ext cx="106632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37"/>
            <p:cNvSpPr/>
            <p:nvPr/>
          </p:nvSpPr>
          <p:spPr>
            <a:xfrm>
              <a:off x="6681960" y="3162240"/>
              <a:ext cx="149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Line 69"/>
          <p:cNvSpPr/>
          <p:nvPr/>
        </p:nvSpPr>
        <p:spPr>
          <a:xfrm flipV="1">
            <a:off x="1670040" y="350964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0"/>
          <p:cNvSpPr/>
          <p:nvPr/>
        </p:nvSpPr>
        <p:spPr>
          <a:xfrm>
            <a:off x="687960" y="3876840"/>
            <a:ext cx="196092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ible for stori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 about tab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a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9"/>
          <p:cNvSpPr/>
          <p:nvPr/>
        </p:nvSpPr>
        <p:spPr>
          <a:xfrm flipV="1">
            <a:off x="4543560" y="3505320"/>
            <a:ext cx="0" cy="49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0"/>
          <p:cNvSpPr/>
          <p:nvPr/>
        </p:nvSpPr>
        <p:spPr>
          <a:xfrm>
            <a:off x="3462840" y="3871800"/>
            <a:ext cx="215748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ible for presenti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data using HTM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embedded R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9"/>
          <p:cNvSpPr/>
          <p:nvPr/>
        </p:nvSpPr>
        <p:spPr>
          <a:xfrm flipV="1">
            <a:off x="7489800" y="3505320"/>
            <a:ext cx="0" cy="49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0"/>
          <p:cNvSpPr/>
          <p:nvPr/>
        </p:nvSpPr>
        <p:spPr>
          <a:xfrm>
            <a:off x="6518160" y="3871800"/>
            <a:ext cx="193644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ible f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ferri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from Model to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Object Relational Mapping (ORM)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682720" y="2076480"/>
            <a:ext cx="3776760" cy="2705040"/>
            <a:chOff x="2682720" y="2076480"/>
            <a:chExt cx="3776760" cy="2705040"/>
          </a:xfrm>
        </p:grpSpPr>
        <p:grpSp>
          <p:nvGrpSpPr>
            <p:cNvPr id="68" name=""/>
            <p:cNvGrpSpPr/>
            <p:nvPr/>
          </p:nvGrpSpPr>
          <p:grpSpPr>
            <a:xfrm>
              <a:off x="2682720" y="2838600"/>
              <a:ext cx="1490760" cy="380880"/>
              <a:chOff x="2682720" y="2838600"/>
              <a:chExt cx="1490760" cy="380880"/>
            </a:xfrm>
          </p:grpSpPr>
          <p:sp>
            <p:nvSpPr>
              <p:cNvPr id="69" name=""/>
              <p:cNvSpPr/>
              <p:nvPr/>
            </p:nvSpPr>
            <p:spPr>
              <a:xfrm>
                <a:off x="2895480" y="2838600"/>
                <a:ext cx="1066680" cy="380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37"/>
              <p:cNvSpPr/>
              <p:nvPr/>
            </p:nvSpPr>
            <p:spPr>
              <a:xfrm>
                <a:off x="2682720" y="2876760"/>
                <a:ext cx="149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a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2682720" y="3562560"/>
              <a:ext cx="1490760" cy="380880"/>
              <a:chOff x="2682720" y="3562560"/>
              <a:chExt cx="1490760" cy="380880"/>
            </a:xfrm>
          </p:grpSpPr>
          <p:sp>
            <p:nvSpPr>
              <p:cNvPr id="72" name=""/>
              <p:cNvSpPr/>
              <p:nvPr/>
            </p:nvSpPr>
            <p:spPr>
              <a:xfrm>
                <a:off x="2895480" y="3562560"/>
                <a:ext cx="1067040" cy="380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37"/>
              <p:cNvSpPr/>
              <p:nvPr/>
            </p:nvSpPr>
            <p:spPr>
              <a:xfrm>
                <a:off x="2682720" y="3600720"/>
                <a:ext cx="149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bje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2682720" y="4286160"/>
              <a:ext cx="1490760" cy="381240"/>
              <a:chOff x="2682720" y="4286160"/>
              <a:chExt cx="1490760" cy="381240"/>
            </a:xfrm>
          </p:grpSpPr>
          <p:sp>
            <p:nvSpPr>
              <p:cNvPr id="75" name=""/>
              <p:cNvSpPr/>
              <p:nvPr/>
            </p:nvSpPr>
            <p:spPr>
              <a:xfrm>
                <a:off x="2895480" y="4286160"/>
                <a:ext cx="1066680" cy="3812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37"/>
              <p:cNvSpPr/>
              <p:nvPr/>
            </p:nvSpPr>
            <p:spPr>
              <a:xfrm>
                <a:off x="2682720" y="4324320"/>
                <a:ext cx="149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ttribut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37"/>
            <p:cNvSpPr/>
            <p:nvPr/>
          </p:nvSpPr>
          <p:spPr>
            <a:xfrm>
              <a:off x="2963880" y="2076480"/>
              <a:ext cx="324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4968720" y="2838600"/>
              <a:ext cx="1490760" cy="380880"/>
              <a:chOff x="4968720" y="2838600"/>
              <a:chExt cx="1490760" cy="380880"/>
            </a:xfrm>
          </p:grpSpPr>
          <p:sp>
            <p:nvSpPr>
              <p:cNvPr id="79" name=""/>
              <p:cNvSpPr/>
              <p:nvPr/>
            </p:nvSpPr>
            <p:spPr>
              <a:xfrm>
                <a:off x="5181480" y="2838600"/>
                <a:ext cx="1066680" cy="380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37"/>
              <p:cNvSpPr/>
              <p:nvPr/>
            </p:nvSpPr>
            <p:spPr>
              <a:xfrm>
                <a:off x="4968720" y="2876760"/>
                <a:ext cx="149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ab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4968720" y="3562560"/>
              <a:ext cx="1490760" cy="380880"/>
              <a:chOff x="4968720" y="3562560"/>
              <a:chExt cx="1490760" cy="380880"/>
            </a:xfrm>
          </p:grpSpPr>
          <p:sp>
            <p:nvSpPr>
              <p:cNvPr id="82" name=""/>
              <p:cNvSpPr/>
              <p:nvPr/>
            </p:nvSpPr>
            <p:spPr>
              <a:xfrm>
                <a:off x="5181480" y="3562560"/>
                <a:ext cx="1067040" cy="380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37"/>
              <p:cNvSpPr/>
              <p:nvPr/>
            </p:nvSpPr>
            <p:spPr>
              <a:xfrm>
                <a:off x="4968720" y="3600720"/>
                <a:ext cx="149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ow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4968720" y="4286160"/>
              <a:ext cx="1490760" cy="381240"/>
              <a:chOff x="4968720" y="4286160"/>
              <a:chExt cx="1490760" cy="381240"/>
            </a:xfrm>
          </p:grpSpPr>
          <p:sp>
            <p:nvSpPr>
              <p:cNvPr id="85" name=""/>
              <p:cNvSpPr/>
              <p:nvPr/>
            </p:nvSpPr>
            <p:spPr>
              <a:xfrm>
                <a:off x="5181480" y="4286160"/>
                <a:ext cx="1066680" cy="3812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37"/>
              <p:cNvSpPr/>
              <p:nvPr/>
            </p:nvSpPr>
            <p:spPr>
              <a:xfrm>
                <a:off x="4968720" y="4324320"/>
                <a:ext cx="149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lum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AutoShape 34"/>
            <p:cNvSpPr/>
            <p:nvPr/>
          </p:nvSpPr>
          <p:spPr>
            <a:xfrm>
              <a:off x="4206960" y="2714760"/>
              <a:ext cx="761760" cy="609480"/>
            </a:xfrm>
            <a:prstGeom prst="rightArrow">
              <a:avLst>
                <a:gd name="adj1" fmla="val 52602"/>
                <a:gd name="adj2" fmla="val 59565"/>
              </a:avLst>
            </a:prstGeom>
            <a:gradFill rotWithShape="0">
              <a:gsLst>
                <a:gs pos="0">
                  <a:srgbClr val="a4c7ff"/>
                </a:gs>
                <a:gs pos="100000">
                  <a:srgbClr val="473ab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34"/>
            <p:cNvSpPr/>
            <p:nvPr/>
          </p:nvSpPr>
          <p:spPr>
            <a:xfrm>
              <a:off x="4206960" y="3448080"/>
              <a:ext cx="761760" cy="609480"/>
            </a:xfrm>
            <a:prstGeom prst="rightArrow">
              <a:avLst>
                <a:gd name="adj1" fmla="val 52602"/>
                <a:gd name="adj2" fmla="val 59565"/>
              </a:avLst>
            </a:prstGeom>
            <a:gradFill rotWithShape="0">
              <a:gsLst>
                <a:gs pos="0">
                  <a:srgbClr val="a4c7ff"/>
                </a:gs>
                <a:gs pos="100000">
                  <a:srgbClr val="473ab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34"/>
            <p:cNvSpPr/>
            <p:nvPr/>
          </p:nvSpPr>
          <p:spPr>
            <a:xfrm>
              <a:off x="4206960" y="4172040"/>
              <a:ext cx="761760" cy="609480"/>
            </a:xfrm>
            <a:prstGeom prst="rightArrow">
              <a:avLst>
                <a:gd name="adj1" fmla="val 52602"/>
                <a:gd name="adj2" fmla="val 59565"/>
              </a:avLst>
            </a:prstGeom>
            <a:gradFill rotWithShape="0">
              <a:gsLst>
                <a:gs pos="0">
                  <a:srgbClr val="a4c7ff"/>
                </a:gs>
                <a:gs pos="100000">
                  <a:srgbClr val="473ab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Reflective Ques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28480" y="1515960"/>
            <a:ext cx="81583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efficient do you find the Rails framework when embedded with Rub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create a new Rails project, what do you think the additional benefits could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19:56:16Z</dcterms:created>
  <dc:creator>PEngin</dc:creator>
  <dc:description>Version 1.6
03.31.03</dc:description>
  <dc:language>en-US</dc:language>
  <cp:lastModifiedBy>Software Manager</cp:lastModifiedBy>
  <dcterms:modified xsi:type="dcterms:W3CDTF">2010-11-29T19:54:12Z</dcterms:modified>
  <cp:revision>28</cp:revision>
  <dc:subject>Courseware Resource Supplement</dc:subject>
  <dc:title>PPT Visuals Template</dc:title>
</cp:coreProperties>
</file>