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813339-23AD-42D9-A71E-A0FDE9E0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1A57A1-FCD1-4BB2-9F39-8D6CC497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 #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File Name(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File 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4C9DFC-2BAB-4CDC-B98A-FFD8358D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66695ECA-33B8-4AB9-A75C-657C6EF974C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Implementing Threads and Handling Excep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515600"/>
            <a:ext cx="8234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els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2689200" y="2003400"/>
            <a:ext cx="556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=File.open("sample.txt", "w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.write "The sample.txt file is open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 Errno::ENOENT=&gt;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e.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 IOError=&gt;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=File.new("Sample1.txt", "a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.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10800000">
            <a:off x="2498400" y="37720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690120" y="3666960"/>
            <a:ext cx="17946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is execu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re are n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ptions to 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28480" y="1515960"/>
            <a:ext cx="815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aspect of multithreading is important for you to keep in mind while implementing the concept in your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le implementing file handling in your programs, what kinds of exceptions will you look out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ultithreading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17720" y="2724120"/>
            <a:ext cx="157176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03800" y="1295280"/>
            <a:ext cx="1600200" cy="1447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65720" y="149544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nam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……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……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65720" y="30733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=i+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……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65720" y="466740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……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……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03800" y="2876400"/>
            <a:ext cx="1600200" cy="1447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4440" y="4448160"/>
            <a:ext cx="1600200" cy="14479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69760" y="2048040"/>
            <a:ext cx="25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89480" y="3676680"/>
            <a:ext cx="170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22680" y="5167440"/>
            <a:ext cx="246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79840" y="2038320"/>
            <a:ext cx="0" cy="77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27360" y="4076640"/>
            <a:ext cx="0" cy="10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380880" y="35434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by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6861240" y="18572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6870600" y="34862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6856560" y="499104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Mutex Clas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3940200" y="1828800"/>
            <a:ext cx="1143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3767040" y="19432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57280" y="3657600"/>
            <a:ext cx="1143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7"/>
          <p:cNvSpPr/>
          <p:nvPr/>
        </p:nvSpPr>
        <p:spPr>
          <a:xfrm>
            <a:off x="1284120" y="37720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16440" y="3657600"/>
            <a:ext cx="1143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3743280" y="37720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64160" y="3657600"/>
            <a:ext cx="1143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7"/>
          <p:cNvSpPr/>
          <p:nvPr/>
        </p:nvSpPr>
        <p:spPr>
          <a:xfrm>
            <a:off x="6291360" y="37720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ad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90800" y="28195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2362320"/>
            <a:ext cx="0" cy="44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95680" y="1828800"/>
            <a:ext cx="1143000" cy="873000"/>
          </a:xfrm>
          <a:prstGeom prst="rect">
            <a:avLst/>
          </a:prstGeom>
          <a:ln w="0">
            <a:noFill/>
          </a:ln>
        </p:spPr>
      </p:pic>
      <p:sp>
        <p:nvSpPr>
          <p:cNvPr id="79" name="Line 69"/>
          <p:cNvSpPr/>
          <p:nvPr/>
        </p:nvSpPr>
        <p:spPr>
          <a:xfrm flipV="1">
            <a:off x="2014560" y="42001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1221480" y="4567320"/>
            <a:ext cx="161172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ad 1 h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lusive acces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0"/>
          <p:cNvSpPr/>
          <p:nvPr/>
        </p:nvSpPr>
        <p:spPr>
          <a:xfrm>
            <a:off x="5118120" y="4567320"/>
            <a:ext cx="14457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ads in lin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th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10"/>
          <p:cNvGrpSpPr/>
          <p:nvPr/>
        </p:nvGrpSpPr>
        <p:grpSpPr>
          <a:xfrm>
            <a:off x="6593040" y="4191840"/>
            <a:ext cx="502560" cy="636120"/>
            <a:chOff x="6593040" y="4191840"/>
            <a:chExt cx="502560" cy="636120"/>
          </a:xfrm>
        </p:grpSpPr>
        <p:sp>
          <p:nvSpPr>
            <p:cNvPr id="83" name="Line 111"/>
            <p:cNvSpPr/>
            <p:nvPr/>
          </p:nvSpPr>
          <p:spPr>
            <a:xfrm>
              <a:off x="7084080" y="4191840"/>
              <a:ext cx="0" cy="63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2"/>
            <p:cNvSpPr/>
            <p:nvPr/>
          </p:nvSpPr>
          <p:spPr>
            <a:xfrm>
              <a:off x="6593040" y="4827600"/>
              <a:ext cx="50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10"/>
          <p:cNvGrpSpPr/>
          <p:nvPr/>
        </p:nvGrpSpPr>
        <p:grpSpPr>
          <a:xfrm>
            <a:off x="4487400" y="4191840"/>
            <a:ext cx="626760" cy="636120"/>
            <a:chOff x="4487400" y="4191840"/>
            <a:chExt cx="626760" cy="636120"/>
          </a:xfrm>
        </p:grpSpPr>
        <p:sp>
          <p:nvSpPr>
            <p:cNvPr id="86" name="Line 111"/>
            <p:cNvSpPr/>
            <p:nvPr/>
          </p:nvSpPr>
          <p:spPr>
            <a:xfrm>
              <a:off x="4501800" y="4191840"/>
              <a:ext cx="0" cy="63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2"/>
            <p:cNvSpPr/>
            <p:nvPr/>
          </p:nvSpPr>
          <p:spPr>
            <a:xfrm flipH="1">
              <a:off x="4487400" y="482760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981080" y="2819520"/>
            <a:ext cx="205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05400" y="2362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6480" y="2362320"/>
            <a:ext cx="2139480" cy="1285560"/>
            <a:chOff x="4956480" y="2362320"/>
            <a:chExt cx="2139480" cy="1285560"/>
          </a:xfrm>
        </p:grpSpPr>
        <p:sp>
          <p:nvSpPr>
            <p:cNvPr id="91" name=""/>
            <p:cNvSpPr/>
            <p:nvPr/>
          </p:nvSpPr>
          <p:spPr>
            <a:xfrm flipV="1">
              <a:off x="7095960" y="280944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62600" y="2362320"/>
              <a:ext cx="0" cy="447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956480" y="281628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Excep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3200400" y="1911240"/>
            <a:ext cx="2209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4991040" y="323208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5232600" y="3794040"/>
            <a:ext cx="1988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ption handling 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Rub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Exception Clas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987720" y="2219400"/>
            <a:ext cx="114300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3814920" y="232416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28440" y="36194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788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1555920" y="361944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9240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070080" y="36194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0836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7"/>
          <p:cNvSpPr/>
          <p:nvPr/>
        </p:nvSpPr>
        <p:spPr>
          <a:xfrm>
            <a:off x="4586400" y="361944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612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6095880" y="36194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mory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40640" y="3505320"/>
            <a:ext cx="14479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7618320" y="361944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00" y="3124080"/>
            <a:ext cx="762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508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052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1504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864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67840" y="3124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2640" y="27338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escu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2286000" y="2057400"/>
            <a:ext cx="556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bj = File.new("sample.txt", "a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bj.puts "This is Exception Handling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bj.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=File.open("sample.txt", "r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.write "The sample.txt file is open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 Errno::ENOENT=&gt;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e.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 IOError=&gt;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2"/>
          <p:cNvSpPr/>
          <p:nvPr/>
        </p:nvSpPr>
        <p:spPr>
          <a:xfrm>
            <a:off x="5219640" y="3619440"/>
            <a:ext cx="238320" cy="990720"/>
          </a:xfrm>
          <a:custGeom>
            <a:avLst/>
            <a:gdLst>
              <a:gd name="textAreaLeft" fmla="*/ 0 w 238320"/>
              <a:gd name="textAreaRight" fmla="*/ 86040 w 238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9"/>
          <p:cNvSpPr/>
          <p:nvPr/>
        </p:nvSpPr>
        <p:spPr>
          <a:xfrm>
            <a:off x="5490720" y="3781440"/>
            <a:ext cx="21420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e rescue state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exception handl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 flipV="1">
            <a:off x="2981160" y="3733920"/>
            <a:ext cx="228600" cy="19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>
            <a:off x="1623960" y="392436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544680" y="3676680"/>
            <a:ext cx="1753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 repres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Exception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ensur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2133720" y="1549440"/>
            <a:ext cx="48765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=File.open("sample.txt", "a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.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7"/>
          <p:cNvSpPr/>
          <p:nvPr/>
        </p:nvSpPr>
        <p:spPr>
          <a:xfrm flipH="1">
            <a:off x="6901920" y="32130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8"/>
          <p:cNvSpPr/>
          <p:nvPr/>
        </p:nvSpPr>
        <p:spPr>
          <a:xfrm>
            <a:off x="7304760" y="2971800"/>
            <a:ext cx="12078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opened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2"/>
          <p:cNvSpPr/>
          <p:nvPr/>
        </p:nvSpPr>
        <p:spPr>
          <a:xfrm>
            <a:off x="4191120" y="430524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8"/>
          <p:cNvSpPr/>
          <p:nvPr/>
        </p:nvSpPr>
        <p:spPr>
          <a:xfrm>
            <a:off x="4434480" y="4334040"/>
            <a:ext cx="1895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ed file is clos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ensure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ais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Line 73"/>
          <p:cNvSpPr/>
          <p:nvPr/>
        </p:nvSpPr>
        <p:spPr>
          <a:xfrm>
            <a:off x="7189920" y="401472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3440" y="1523880"/>
            <a:ext cx="1257480" cy="5335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39360" y="1627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33440" y="2514600"/>
            <a:ext cx="3229200" cy="533160"/>
            <a:chOff x="1333440" y="2514600"/>
            <a:chExt cx="3229200" cy="533160"/>
          </a:xfrm>
        </p:grpSpPr>
        <p:sp>
          <p:nvSpPr>
            <p:cNvPr id="139" name=""/>
            <p:cNvSpPr/>
            <p:nvPr/>
          </p:nvSpPr>
          <p:spPr>
            <a:xfrm>
              <a:off x="1333440" y="2514600"/>
              <a:ext cx="3229200" cy="53316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3120" y="261144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aise 'Error Message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 flipV="1">
            <a:off x="3265560" y="472608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"/>
          <p:cNvSpPr/>
          <p:nvPr/>
        </p:nvSpPr>
        <p:spPr>
          <a:xfrm>
            <a:off x="2650320" y="5092560"/>
            <a:ext cx="1209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es ty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4"/>
          <p:cNvSpPr/>
          <p:nvPr/>
        </p:nvSpPr>
        <p:spPr>
          <a:xfrm>
            <a:off x="6303960" y="3398760"/>
            <a:ext cx="17686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a string arra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details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3440" y="4351320"/>
            <a:ext cx="6534000" cy="533160"/>
            <a:chOff x="1333440" y="4351320"/>
            <a:chExt cx="6534000" cy="533160"/>
          </a:xfrm>
        </p:grpSpPr>
        <p:sp>
          <p:nvSpPr>
            <p:cNvPr id="145" name=""/>
            <p:cNvSpPr/>
            <p:nvPr/>
          </p:nvSpPr>
          <p:spPr>
            <a:xfrm>
              <a:off x="1333440" y="4351320"/>
              <a:ext cx="6534000" cy="53316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4448160"/>
              <a:ext cx="63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aise Type of Exception, 'Error Message', cal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7"/>
          <p:cNvGrpSpPr/>
          <p:nvPr/>
        </p:nvGrpSpPr>
        <p:grpSpPr>
          <a:xfrm>
            <a:off x="5137200" y="3886200"/>
            <a:ext cx="407880" cy="617040"/>
            <a:chOff x="5137200" y="3886200"/>
            <a:chExt cx="407880" cy="617040"/>
          </a:xfrm>
        </p:grpSpPr>
        <p:sp>
          <p:nvSpPr>
            <p:cNvPr id="148" name="Line 108"/>
            <p:cNvSpPr/>
            <p:nvPr/>
          </p:nvSpPr>
          <p:spPr>
            <a:xfrm>
              <a:off x="5137200" y="390024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9"/>
            <p:cNvSpPr/>
            <p:nvPr/>
          </p:nvSpPr>
          <p:spPr>
            <a:xfrm flipV="1">
              <a:off x="5544720" y="3886200"/>
              <a:ext cx="0" cy="61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70"/>
          <p:cNvSpPr/>
          <p:nvPr/>
        </p:nvSpPr>
        <p:spPr>
          <a:xfrm>
            <a:off x="3018600" y="3657600"/>
            <a:ext cx="23464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es mess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ciated with the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7"/>
          <p:cNvSpPr/>
          <p:nvPr/>
        </p:nvSpPr>
        <p:spPr>
          <a:xfrm flipH="1">
            <a:off x="4581000" y="28051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5029200" y="2568600"/>
            <a:ext cx="3048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ciates message specified in parameter with the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7"/>
          <p:cNvSpPr/>
          <p:nvPr/>
        </p:nvSpPr>
        <p:spPr>
          <a:xfrm flipH="1">
            <a:off x="2603160" y="18097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3048120" y="1571760"/>
            <a:ext cx="2533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gs any current excepti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etry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3267000" y="2405160"/>
            <a:ext cx="1981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c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7"/>
          <p:cNvSpPr/>
          <p:nvPr/>
        </p:nvSpPr>
        <p:spPr>
          <a:xfrm flipH="1">
            <a:off x="4648320" y="357192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8"/>
          <p:cNvSpPr/>
          <p:nvPr/>
        </p:nvSpPr>
        <p:spPr>
          <a:xfrm>
            <a:off x="5066640" y="3330720"/>
            <a:ext cx="1480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s block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Software Manager</cp:lastModifiedBy>
  <dcterms:modified xsi:type="dcterms:W3CDTF">2010-11-29T19:51:40Z</dcterms:modified>
  <cp:revision>62</cp:revision>
  <dc:subject>Courseware Resource Supplement</dc:subject>
  <dc:title>PPT Visuals Template</dc:title>
</cp:coreProperties>
</file>