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EE4C64-D3AF-4A6C-962A-9E95F8325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9CEF5C-6FEB-477E-B79B-C18BD8ECC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AD22720-9B43-455E-A0C9-4AFA46E22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owerPoint Backgrou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A691906F-289F-4289-BAC6-D0C81D947A7C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" y="6551640"/>
            <a:ext cx="364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4c4"/>
                </a:solidFill>
                <a:latin typeface="Arial"/>
              </a:rPr>
              <a:t>Copyright © 2010 Element K Content LL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Programming in Ruby Using OOPs Concep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8480" y="1515600"/>
            <a:ext cx="82346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rogram Using OOPS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Strings and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Built-i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include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3340080" y="3179880"/>
            <a:ext cx="27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quire ‘BankAcc.rb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lude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3"/>
          <p:cNvSpPr/>
          <p:nvPr/>
        </p:nvSpPr>
        <p:spPr>
          <a:xfrm>
            <a:off x="4813200" y="272736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4"/>
          <p:cNvSpPr/>
          <p:nvPr/>
        </p:nvSpPr>
        <p:spPr>
          <a:xfrm>
            <a:off x="3979800" y="2340000"/>
            <a:ext cx="16606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that contai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ounts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9"/>
          <p:cNvSpPr/>
          <p:nvPr/>
        </p:nvSpPr>
        <p:spPr>
          <a:xfrm flipV="1">
            <a:off x="4816440" y="368316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0"/>
          <p:cNvSpPr/>
          <p:nvPr/>
        </p:nvSpPr>
        <p:spPr>
          <a:xfrm>
            <a:off x="3867840" y="4049640"/>
            <a:ext cx="1927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e to be embedd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in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Mixi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89000" y="1947960"/>
            <a:ext cx="5164200" cy="2950920"/>
            <a:chOff x="1989000" y="1947960"/>
            <a:chExt cx="5164200" cy="2950920"/>
          </a:xfrm>
        </p:grpSpPr>
        <p:grpSp>
          <p:nvGrpSpPr>
            <p:cNvPr id="169" name=""/>
            <p:cNvGrpSpPr/>
            <p:nvPr/>
          </p:nvGrpSpPr>
          <p:grpSpPr>
            <a:xfrm>
              <a:off x="1989000" y="1947960"/>
              <a:ext cx="5164200" cy="2129760"/>
              <a:chOff x="1989000" y="1947960"/>
              <a:chExt cx="5164200" cy="2129760"/>
            </a:xfrm>
          </p:grpSpPr>
          <p:sp>
            <p:nvSpPr>
              <p:cNvPr id="170" name=""/>
              <p:cNvSpPr/>
              <p:nvPr/>
            </p:nvSpPr>
            <p:spPr>
              <a:xfrm>
                <a:off x="2065320" y="1947960"/>
                <a:ext cx="1981080" cy="9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37"/>
              <p:cNvSpPr/>
              <p:nvPr/>
            </p:nvSpPr>
            <p:spPr>
              <a:xfrm>
                <a:off x="1989000" y="2023920"/>
                <a:ext cx="211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ule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37"/>
              <p:cNvSpPr/>
              <p:nvPr/>
            </p:nvSpPr>
            <p:spPr>
              <a:xfrm>
                <a:off x="1989000" y="2481120"/>
                <a:ext cx="211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ass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65320" y="2404800"/>
                <a:ext cx="19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113080" y="1947960"/>
                <a:ext cx="1981440" cy="914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37"/>
              <p:cNvSpPr/>
              <p:nvPr/>
            </p:nvSpPr>
            <p:spPr>
              <a:xfrm>
                <a:off x="5037120" y="2023920"/>
                <a:ext cx="211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ule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37"/>
              <p:cNvSpPr/>
              <p:nvPr/>
            </p:nvSpPr>
            <p:spPr>
              <a:xfrm>
                <a:off x="5037120" y="2481120"/>
                <a:ext cx="211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ass 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13080" y="2404800"/>
                <a:ext cx="1981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057480" y="2865960"/>
                <a:ext cx="3047760" cy="824760"/>
                <a:chOff x="3057480" y="2865960"/>
                <a:chExt cx="3047760" cy="824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105240" y="2865960"/>
                  <a:ext cx="0" cy="38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057480" y="2865960"/>
                  <a:ext cx="0" cy="38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68760" y="3233880"/>
                  <a:ext cx="0" cy="45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3057480" y="3240000"/>
                  <a:ext cx="3047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4027320" y="3697200"/>
                <a:ext cx="1066680" cy="380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37"/>
              <p:cNvSpPr/>
              <p:nvPr/>
            </p:nvSpPr>
            <p:spPr>
              <a:xfrm>
                <a:off x="3814560" y="3735360"/>
                <a:ext cx="149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ass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Line 69"/>
            <p:cNvSpPr/>
            <p:nvPr/>
          </p:nvSpPr>
          <p:spPr>
            <a:xfrm flipV="1">
              <a:off x="4557600" y="4073040"/>
              <a:ext cx="0" cy="49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0"/>
            <p:cNvSpPr/>
            <p:nvPr/>
          </p:nvSpPr>
          <p:spPr>
            <a:xfrm>
              <a:off x="3187440" y="4439880"/>
              <a:ext cx="2728800" cy="459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class inheriting the attribu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behavior of two parent clas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String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09520" y="2216160"/>
            <a:ext cx="8915400" cy="2416320"/>
            <a:chOff x="209520" y="2216160"/>
            <a:chExt cx="8915400" cy="2416320"/>
          </a:xfrm>
        </p:grpSpPr>
        <p:sp>
          <p:nvSpPr>
            <p:cNvPr id="189" name="Text Box 37"/>
            <p:cNvSpPr/>
            <p:nvPr/>
          </p:nvSpPr>
          <p:spPr>
            <a:xfrm>
              <a:off x="2324160" y="2279520"/>
              <a:ext cx="24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yStr = String.n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7"/>
            <p:cNvSpPr/>
            <p:nvPr/>
          </p:nvSpPr>
          <p:spPr>
            <a:xfrm>
              <a:off x="2341440" y="3159000"/>
              <a:ext cx="678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yStr = String.new("A string is a set of characters"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7"/>
            <p:cNvSpPr/>
            <p:nvPr/>
          </p:nvSpPr>
          <p:spPr>
            <a:xfrm>
              <a:off x="2343240" y="4130640"/>
              <a:ext cx="579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yString = "A string is a set of characters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1"/>
            <p:cNvSpPr/>
            <p:nvPr/>
          </p:nvSpPr>
          <p:spPr>
            <a:xfrm>
              <a:off x="1844640" y="2463840"/>
              <a:ext cx="49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2"/>
            <p:cNvSpPr/>
            <p:nvPr/>
          </p:nvSpPr>
          <p:spPr>
            <a:xfrm>
              <a:off x="222120" y="2216160"/>
              <a:ext cx="1739880" cy="459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es an empt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1"/>
            <p:cNvSpPr/>
            <p:nvPr/>
          </p:nvSpPr>
          <p:spPr>
            <a:xfrm>
              <a:off x="1857240" y="3343320"/>
              <a:ext cx="49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2"/>
            <p:cNvSpPr/>
            <p:nvPr/>
          </p:nvSpPr>
          <p:spPr>
            <a:xfrm>
              <a:off x="209520" y="2924280"/>
              <a:ext cx="1752480" cy="82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es a new Str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 with th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alue specifie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thin quo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1"/>
            <p:cNvSpPr/>
            <p:nvPr/>
          </p:nvSpPr>
          <p:spPr>
            <a:xfrm>
              <a:off x="1857240" y="4314960"/>
              <a:ext cx="49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2"/>
            <p:cNvSpPr/>
            <p:nvPr/>
          </p:nvSpPr>
          <p:spPr>
            <a:xfrm>
              <a:off x="209520" y="3990960"/>
              <a:ext cx="1752480" cy="6415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es a str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y just assign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string to a vari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Array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2666880"/>
            <a:ext cx="12952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642960" y="26956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35080" y="2666880"/>
            <a:ext cx="12956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7"/>
          <p:cNvSpPr/>
          <p:nvPr/>
        </p:nvSpPr>
        <p:spPr>
          <a:xfrm>
            <a:off x="1938240" y="26956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30720" y="2666880"/>
            <a:ext cx="12952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3233880" y="26956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6000" y="2666880"/>
            <a:ext cx="12952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7"/>
          <p:cNvSpPr/>
          <p:nvPr/>
        </p:nvSpPr>
        <p:spPr>
          <a:xfrm>
            <a:off x="4529160" y="26956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21280" y="2666880"/>
            <a:ext cx="129564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5824440" y="269568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16920" y="2666880"/>
            <a:ext cx="12952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7120080" y="269568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0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7"/>
          <p:cNvSpPr/>
          <p:nvPr/>
        </p:nvSpPr>
        <p:spPr>
          <a:xfrm>
            <a:off x="638280" y="228600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7"/>
          <p:cNvSpPr/>
          <p:nvPr/>
        </p:nvSpPr>
        <p:spPr>
          <a:xfrm>
            <a:off x="1933560" y="22860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3228840" y="22860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7"/>
          <p:cNvSpPr/>
          <p:nvPr/>
        </p:nvSpPr>
        <p:spPr>
          <a:xfrm>
            <a:off x="4524480" y="228600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7"/>
          <p:cNvSpPr/>
          <p:nvPr/>
        </p:nvSpPr>
        <p:spPr>
          <a:xfrm>
            <a:off x="5819760" y="22860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7"/>
          <p:cNvSpPr/>
          <p:nvPr/>
        </p:nvSpPr>
        <p:spPr>
          <a:xfrm>
            <a:off x="7115040" y="228600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38280" y="311472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1933560" y="31147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3228840" y="31147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4524480" y="3114720"/>
            <a:ext cx="149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7"/>
          <p:cNvSpPr/>
          <p:nvPr/>
        </p:nvSpPr>
        <p:spPr>
          <a:xfrm>
            <a:off x="5819760" y="31147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7115040" y="31147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9"/>
          <p:cNvSpPr/>
          <p:nvPr/>
        </p:nvSpPr>
        <p:spPr>
          <a:xfrm>
            <a:off x="4370400" y="3049560"/>
            <a:ext cx="0" cy="1065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1"/>
          <p:cNvSpPr/>
          <p:nvPr/>
        </p:nvSpPr>
        <p:spPr>
          <a:xfrm flipH="1">
            <a:off x="1676160" y="371808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2"/>
          <p:cNvSpPr/>
          <p:nvPr/>
        </p:nvSpPr>
        <p:spPr>
          <a:xfrm>
            <a:off x="1677960" y="3049560"/>
            <a:ext cx="0" cy="684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9"/>
          <p:cNvSpPr/>
          <p:nvPr/>
        </p:nvSpPr>
        <p:spPr>
          <a:xfrm>
            <a:off x="6934320" y="3048120"/>
            <a:ext cx="0" cy="684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9"/>
          <p:cNvSpPr/>
          <p:nvPr/>
        </p:nvSpPr>
        <p:spPr>
          <a:xfrm>
            <a:off x="3135600" y="4010040"/>
            <a:ext cx="24681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ing and numeri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s stored in the same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Hash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50800" y="2514600"/>
            <a:ext cx="6240960" cy="2057400"/>
            <a:chOff x="1450800" y="2514600"/>
            <a:chExt cx="6240960" cy="2057400"/>
          </a:xfrm>
        </p:grpSpPr>
        <p:sp>
          <p:nvSpPr>
            <p:cNvPr id="230" name=""/>
            <p:cNvSpPr/>
            <p:nvPr/>
          </p:nvSpPr>
          <p:spPr>
            <a:xfrm>
              <a:off x="2241360" y="2514600"/>
              <a:ext cx="2971800" cy="2057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41360" y="2895480"/>
              <a:ext cx="29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41360" y="3276720"/>
              <a:ext cx="29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7440" y="2895480"/>
              <a:ext cx="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7"/>
            <p:cNvSpPr/>
            <p:nvPr/>
          </p:nvSpPr>
          <p:spPr>
            <a:xfrm>
              <a:off x="2975040" y="2543040"/>
              <a:ext cx="149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7"/>
            <p:cNvSpPr/>
            <p:nvPr/>
          </p:nvSpPr>
          <p:spPr>
            <a:xfrm>
              <a:off x="2222280" y="292428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3751200" y="292428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7"/>
            <p:cNvSpPr/>
            <p:nvPr/>
          </p:nvSpPr>
          <p:spPr>
            <a:xfrm>
              <a:off x="2212920" y="334332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7"/>
            <p:cNvSpPr/>
            <p:nvPr/>
          </p:nvSpPr>
          <p:spPr>
            <a:xfrm>
              <a:off x="3741480" y="334332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7"/>
            <p:cNvSpPr/>
            <p:nvPr/>
          </p:nvSpPr>
          <p:spPr>
            <a:xfrm>
              <a:off x="2212920" y="373392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7"/>
            <p:cNvSpPr/>
            <p:nvPr/>
          </p:nvSpPr>
          <p:spPr>
            <a:xfrm>
              <a:off x="3741480" y="373392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7"/>
            <p:cNvSpPr/>
            <p:nvPr/>
          </p:nvSpPr>
          <p:spPr>
            <a:xfrm>
              <a:off x="2212920" y="411480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ther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7"/>
            <p:cNvSpPr/>
            <p:nvPr/>
          </p:nvSpPr>
          <p:spPr>
            <a:xfrm>
              <a:off x="3741480" y="4114800"/>
              <a:ext cx="14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1"/>
            <p:cNvSpPr/>
            <p:nvPr/>
          </p:nvSpPr>
          <p:spPr>
            <a:xfrm>
              <a:off x="2019240" y="3075120"/>
              <a:ext cx="49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2"/>
            <p:cNvSpPr/>
            <p:nvPr/>
          </p:nvSpPr>
          <p:spPr>
            <a:xfrm>
              <a:off x="1450800" y="2913120"/>
              <a:ext cx="64476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5"/>
            <p:cNvSpPr/>
            <p:nvPr/>
          </p:nvSpPr>
          <p:spPr>
            <a:xfrm flipH="1">
              <a:off x="5013360" y="308628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6"/>
            <p:cNvSpPr/>
            <p:nvPr/>
          </p:nvSpPr>
          <p:spPr>
            <a:xfrm>
              <a:off x="5399640" y="2933640"/>
              <a:ext cx="58932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32"/>
            <p:cNvSpPr/>
            <p:nvPr/>
          </p:nvSpPr>
          <p:spPr>
            <a:xfrm>
              <a:off x="5289480" y="3324240"/>
              <a:ext cx="228600" cy="12193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9"/>
            <p:cNvSpPr/>
            <p:nvPr/>
          </p:nvSpPr>
          <p:spPr>
            <a:xfrm>
              <a:off x="5529960" y="3695760"/>
              <a:ext cx="2161800" cy="459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ries stored as key-valu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irs in a ha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Iterator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2217600" y="3200400"/>
            <a:ext cx="48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contact_info.each {|i| print i, "\n"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9"/>
          <p:cNvSpPr/>
          <p:nvPr/>
        </p:nvSpPr>
        <p:spPr>
          <a:xfrm flipV="1">
            <a:off x="4257720" y="35348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0"/>
          <p:cNvSpPr/>
          <p:nvPr/>
        </p:nvSpPr>
        <p:spPr>
          <a:xfrm>
            <a:off x="3105720" y="3902040"/>
            <a:ext cx="23022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rieves all th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array one after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28480" y="1515960"/>
            <a:ext cx="8158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ich object-oriented principle do you think will be useful to you while developing applications using Rub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or storing and manipulating what kind of data do you think Hashes will be useful while developing Ruby appl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Objec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408400" y="3809880"/>
            <a:ext cx="4325400" cy="1557720"/>
            <a:chOff x="2408400" y="3809880"/>
            <a:chExt cx="4325400" cy="1557720"/>
          </a:xfrm>
        </p:grpSpPr>
        <p:sp>
          <p:nvSpPr>
            <p:cNvPr id="52" name=""/>
            <p:cNvSpPr/>
            <p:nvPr/>
          </p:nvSpPr>
          <p:spPr>
            <a:xfrm>
              <a:off x="2408400" y="3809880"/>
              <a:ext cx="198108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37"/>
            <p:cNvSpPr/>
            <p:nvPr/>
          </p:nvSpPr>
          <p:spPr>
            <a:xfrm>
              <a:off x="2654280" y="4008600"/>
              <a:ext cx="149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celerator and Brak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94040" y="3809880"/>
              <a:ext cx="198108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37"/>
            <p:cNvSpPr/>
            <p:nvPr/>
          </p:nvSpPr>
          <p:spPr>
            <a:xfrm>
              <a:off x="4618080" y="3886200"/>
              <a:ext cx="21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reasing the spe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7"/>
            <p:cNvSpPr/>
            <p:nvPr/>
          </p:nvSpPr>
          <p:spPr>
            <a:xfrm>
              <a:off x="4618080" y="4343400"/>
              <a:ext cx="21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ying the brak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94040" y="42670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9"/>
            <p:cNvSpPr/>
            <p:nvPr/>
          </p:nvSpPr>
          <p:spPr>
            <a:xfrm flipV="1">
              <a:off x="3423960" y="4723920"/>
              <a:ext cx="0" cy="49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70"/>
            <p:cNvSpPr/>
            <p:nvPr/>
          </p:nvSpPr>
          <p:spPr>
            <a:xfrm>
              <a:off x="2964960" y="5091120"/>
              <a:ext cx="90000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9"/>
            <p:cNvSpPr/>
            <p:nvPr/>
          </p:nvSpPr>
          <p:spPr>
            <a:xfrm flipV="1">
              <a:off x="5705280" y="4708080"/>
              <a:ext cx="0" cy="49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0"/>
            <p:cNvSpPr/>
            <p:nvPr/>
          </p:nvSpPr>
          <p:spPr>
            <a:xfrm>
              <a:off x="5236560" y="5075280"/>
              <a:ext cx="91980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havi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19112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ass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2452680" y="3533760"/>
            <a:ext cx="106668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2239920" y="35719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35200" y="1419120"/>
            <a:ext cx="198144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7"/>
          <p:cNvSpPr/>
          <p:nvPr/>
        </p:nvSpPr>
        <p:spPr>
          <a:xfrm>
            <a:off x="3459240" y="14954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7"/>
          <p:cNvSpPr/>
          <p:nvPr/>
        </p:nvSpPr>
        <p:spPr>
          <a:xfrm>
            <a:off x="3459240" y="1952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5200" y="187632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3459240" y="233352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33920" y="3533760"/>
            <a:ext cx="10670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5321160" y="3571920"/>
            <a:ext cx="14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02040" y="3152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49800" y="3152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38520" y="2708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02040" y="315900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7"/>
          <p:cNvSpPr/>
          <p:nvPr/>
        </p:nvSpPr>
        <p:spPr>
          <a:xfrm flipH="1">
            <a:off x="5516640" y="232416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5871600" y="2000160"/>
            <a:ext cx="205524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ributes that a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ilar to the attributes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and tr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1"/>
          <p:cNvSpPr/>
          <p:nvPr/>
        </p:nvSpPr>
        <p:spPr>
          <a:xfrm>
            <a:off x="3033720" y="166680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2"/>
          <p:cNvSpPr/>
          <p:nvPr/>
        </p:nvSpPr>
        <p:spPr>
          <a:xfrm>
            <a:off x="2523960" y="1514520"/>
            <a:ext cx="58932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7"/>
          <p:cNvSpPr/>
          <p:nvPr/>
        </p:nvSpPr>
        <p:spPr>
          <a:xfrm flipH="1">
            <a:off x="6602040" y="372420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8"/>
          <p:cNvSpPr/>
          <p:nvPr/>
        </p:nvSpPr>
        <p:spPr>
          <a:xfrm>
            <a:off x="7047000" y="3492360"/>
            <a:ext cx="14043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 of vehic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1"/>
          <p:cNvSpPr/>
          <p:nvPr/>
        </p:nvSpPr>
        <p:spPr>
          <a:xfrm>
            <a:off x="1944720" y="373392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8"/>
          <p:cNvSpPr/>
          <p:nvPr/>
        </p:nvSpPr>
        <p:spPr>
          <a:xfrm>
            <a:off x="532080" y="3492360"/>
            <a:ext cx="14043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 of vehic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2496960" y="4829040"/>
            <a:ext cx="39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_name=class_name.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9"/>
          <p:cNvSpPr/>
          <p:nvPr/>
        </p:nvSpPr>
        <p:spPr>
          <a:xfrm flipV="1">
            <a:off x="5921280" y="510552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0"/>
          <p:cNvSpPr/>
          <p:nvPr/>
        </p:nvSpPr>
        <p:spPr>
          <a:xfrm>
            <a:off x="4967640" y="5472000"/>
            <a:ext cx="19044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 used to crea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new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Encapsula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Text Box 37"/>
          <p:cNvSpPr/>
          <p:nvPr/>
        </p:nvSpPr>
        <p:spPr>
          <a:xfrm>
            <a:off x="979560" y="2616120"/>
            <a:ext cx="5562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Account_No = 123234564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Balance =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Deposit = (am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Balance=@Balance+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3"/>
          <p:cNvSpPr/>
          <p:nvPr/>
        </p:nvSpPr>
        <p:spPr>
          <a:xfrm flipH="1" rot="10800000">
            <a:off x="5617080" y="2843280"/>
            <a:ext cx="228600" cy="1162080"/>
          </a:xfrm>
          <a:custGeom>
            <a:avLst/>
            <a:gdLst>
              <a:gd name="textAreaLeft" fmla="*/ 0 w 228600"/>
              <a:gd name="textAreaRight" fmla="*/ 82440 w 228600"/>
              <a:gd name="textAreaTop" fmla="*/ 30240 h 1162080"/>
              <a:gd name="textAreaBottom" fmla="*/ 113184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8"/>
          <p:cNvSpPr/>
          <p:nvPr/>
        </p:nvSpPr>
        <p:spPr>
          <a:xfrm>
            <a:off x="5862960" y="3252960"/>
            <a:ext cx="19789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ributes and behavio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capsulated in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Inheritanc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1419120"/>
            <a:ext cx="198108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4208400" y="14954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7"/>
          <p:cNvSpPr/>
          <p:nvPr/>
        </p:nvSpPr>
        <p:spPr>
          <a:xfrm>
            <a:off x="4208400" y="1952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18763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7"/>
          <p:cNvSpPr/>
          <p:nvPr/>
        </p:nvSpPr>
        <p:spPr>
          <a:xfrm>
            <a:off x="4208400" y="233352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51200" y="3152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99320" y="3152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288040" y="2708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315900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1"/>
          <p:cNvSpPr/>
          <p:nvPr/>
        </p:nvSpPr>
        <p:spPr>
          <a:xfrm>
            <a:off x="3782880" y="166680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2"/>
          <p:cNvSpPr/>
          <p:nvPr/>
        </p:nvSpPr>
        <p:spPr>
          <a:xfrm>
            <a:off x="2747880" y="1523880"/>
            <a:ext cx="10828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60840" y="3524400"/>
            <a:ext cx="19810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684520" y="36003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2684520" y="41054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0840" y="39816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7"/>
          <p:cNvSpPr/>
          <p:nvPr/>
        </p:nvSpPr>
        <p:spPr>
          <a:xfrm>
            <a:off x="2684520" y="448632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07160" y="3524400"/>
            <a:ext cx="198108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7"/>
          <p:cNvSpPr/>
          <p:nvPr/>
        </p:nvSpPr>
        <p:spPr>
          <a:xfrm>
            <a:off x="5730840" y="360036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07160" y="398160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7"/>
          <p:cNvSpPr/>
          <p:nvPr/>
        </p:nvSpPr>
        <p:spPr>
          <a:xfrm>
            <a:off x="2684520" y="486720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5732640" y="411480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732640" y="449568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 flipH="1">
            <a:off x="2958480" y="415296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9"/>
          <p:cNvSpPr/>
          <p:nvPr/>
        </p:nvSpPr>
        <p:spPr>
          <a:xfrm flipV="1">
            <a:off x="6792840" y="52700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0"/>
          <p:cNvSpPr/>
          <p:nvPr/>
        </p:nvSpPr>
        <p:spPr>
          <a:xfrm>
            <a:off x="6305760" y="5637240"/>
            <a:ext cx="9885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d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9"/>
          <p:cNvSpPr/>
          <p:nvPr/>
        </p:nvSpPr>
        <p:spPr>
          <a:xfrm flipV="1">
            <a:off x="3746520" y="526680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"/>
          <p:cNvSpPr/>
          <p:nvPr/>
        </p:nvSpPr>
        <p:spPr>
          <a:xfrm>
            <a:off x="3259440" y="5634000"/>
            <a:ext cx="9885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d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1"/>
          <p:cNvSpPr/>
          <p:nvPr/>
        </p:nvSpPr>
        <p:spPr>
          <a:xfrm>
            <a:off x="2473200" y="44578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4"/>
          <p:cNvSpPr/>
          <p:nvPr/>
        </p:nvSpPr>
        <p:spPr>
          <a:xfrm>
            <a:off x="982800" y="4210200"/>
            <a:ext cx="15872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ributes inheri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par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1"/>
          <p:cNvSpPr/>
          <p:nvPr/>
        </p:nvSpPr>
        <p:spPr>
          <a:xfrm>
            <a:off x="2273400" y="5035680"/>
            <a:ext cx="95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4"/>
          <p:cNvSpPr/>
          <p:nvPr/>
        </p:nvSpPr>
        <p:spPr>
          <a:xfrm>
            <a:off x="1016280" y="4788000"/>
            <a:ext cx="15552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ributes specific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saving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Polymorphism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87440" y="2690640"/>
            <a:ext cx="6370200" cy="1794240"/>
            <a:chOff x="1387440" y="2690640"/>
            <a:chExt cx="6370200" cy="1794240"/>
          </a:xfrm>
        </p:grpSpPr>
        <p:grpSp>
          <p:nvGrpSpPr>
            <p:cNvPr id="126" name=""/>
            <p:cNvGrpSpPr/>
            <p:nvPr/>
          </p:nvGrpSpPr>
          <p:grpSpPr>
            <a:xfrm>
              <a:off x="1387440" y="2690640"/>
              <a:ext cx="6370200" cy="390600"/>
              <a:chOff x="1387440" y="2690640"/>
              <a:chExt cx="6370200" cy="390600"/>
            </a:xfrm>
          </p:grpSpPr>
          <p:sp>
            <p:nvSpPr>
              <p:cNvPr id="127" name=""/>
              <p:cNvSpPr/>
              <p:nvPr/>
            </p:nvSpPr>
            <p:spPr>
              <a:xfrm>
                <a:off x="1599840" y="2690640"/>
                <a:ext cx="1066680" cy="381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37"/>
              <p:cNvSpPr/>
              <p:nvPr/>
            </p:nvSpPr>
            <p:spPr>
              <a:xfrm>
                <a:off x="1387440" y="2728800"/>
                <a:ext cx="149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 + 5 = 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79600" y="2700360"/>
                <a:ext cx="4478040" cy="380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37"/>
              <p:cNvSpPr/>
              <p:nvPr/>
            </p:nvSpPr>
            <p:spPr>
              <a:xfrm>
                <a:off x="3276360" y="2728800"/>
                <a:ext cx="4462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"Good" + " Morning" = "Good Morning"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108"/>
            <p:cNvSpPr/>
            <p:nvPr/>
          </p:nvSpPr>
          <p:spPr>
            <a:xfrm>
              <a:off x="1981080" y="3473280"/>
              <a:ext cx="26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09"/>
            <p:cNvSpPr/>
            <p:nvPr/>
          </p:nvSpPr>
          <p:spPr>
            <a:xfrm>
              <a:off x="4648320" y="3073320"/>
              <a:ext cx="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12"/>
            <p:cNvSpPr/>
            <p:nvPr/>
          </p:nvSpPr>
          <p:spPr>
            <a:xfrm>
              <a:off x="1990800" y="3073320"/>
              <a:ext cx="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3"/>
            <p:cNvSpPr/>
            <p:nvPr/>
          </p:nvSpPr>
          <p:spPr>
            <a:xfrm>
              <a:off x="3357720" y="3462480"/>
              <a:ext cx="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60"/>
            <p:cNvSpPr/>
            <p:nvPr/>
          </p:nvSpPr>
          <p:spPr>
            <a:xfrm>
              <a:off x="2217960" y="3843360"/>
              <a:ext cx="2283840" cy="6415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me operator used fo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fferent purposes exhibit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lymorphic behav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Abstraction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3108240" y="2057400"/>
            <a:ext cx="3749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rectangle (len, b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(len * b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= Area.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.rectangle (3,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3274920" y="405612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0"/>
          <p:cNvSpPr/>
          <p:nvPr/>
        </p:nvSpPr>
        <p:spPr>
          <a:xfrm>
            <a:off x="2292840" y="4422600"/>
            <a:ext cx="19548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culation of area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tangle is hidden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Modul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66680" y="2743200"/>
            <a:ext cx="6937200" cy="1438200"/>
            <a:chOff x="1066680" y="2743200"/>
            <a:chExt cx="6937200" cy="1438200"/>
          </a:xfrm>
        </p:grpSpPr>
        <p:sp>
          <p:nvSpPr>
            <p:cNvPr id="142" name=""/>
            <p:cNvSpPr/>
            <p:nvPr/>
          </p:nvSpPr>
          <p:spPr>
            <a:xfrm>
              <a:off x="1142640" y="2752560"/>
              <a:ext cx="1981440" cy="142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7"/>
            <p:cNvSpPr/>
            <p:nvPr/>
          </p:nvSpPr>
          <p:spPr>
            <a:xfrm>
              <a:off x="1066680" y="2828880"/>
              <a:ext cx="21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ul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37"/>
            <p:cNvSpPr/>
            <p:nvPr/>
          </p:nvSpPr>
          <p:spPr>
            <a:xfrm>
              <a:off x="1066680" y="3333600"/>
              <a:ext cx="21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42640" y="3209760"/>
              <a:ext cx="198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7"/>
            <p:cNvSpPr/>
            <p:nvPr/>
          </p:nvSpPr>
          <p:spPr>
            <a:xfrm>
              <a:off x="1066680" y="3714480"/>
              <a:ext cx="21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1360" y="2752560"/>
              <a:ext cx="1981080" cy="142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7"/>
            <p:cNvSpPr/>
            <p:nvPr/>
          </p:nvSpPr>
          <p:spPr>
            <a:xfrm>
              <a:off x="3335040" y="2828880"/>
              <a:ext cx="21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ul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1360" y="320976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7"/>
            <p:cNvSpPr/>
            <p:nvPr/>
          </p:nvSpPr>
          <p:spPr>
            <a:xfrm>
              <a:off x="3336840" y="3342960"/>
              <a:ext cx="21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7"/>
            <p:cNvSpPr/>
            <p:nvPr/>
          </p:nvSpPr>
          <p:spPr>
            <a:xfrm>
              <a:off x="3336840" y="3724200"/>
              <a:ext cx="21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7"/>
            <p:cNvSpPr/>
            <p:nvPr/>
          </p:nvSpPr>
          <p:spPr>
            <a:xfrm flipH="1">
              <a:off x="5400000" y="2990520"/>
              <a:ext cx="49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8"/>
            <p:cNvSpPr/>
            <p:nvPr/>
          </p:nvSpPr>
          <p:spPr>
            <a:xfrm>
              <a:off x="5878440" y="2743200"/>
              <a:ext cx="2125440" cy="459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ule containing classe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metho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require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38280" y="2575080"/>
            <a:ext cx="3990960" cy="1757520"/>
            <a:chOff x="2438280" y="2575080"/>
            <a:chExt cx="3990960" cy="1757520"/>
          </a:xfrm>
        </p:grpSpPr>
        <p:sp>
          <p:nvSpPr>
            <p:cNvPr id="156" name="Text Box 37"/>
            <p:cNvSpPr/>
            <p:nvPr/>
          </p:nvSpPr>
          <p:spPr>
            <a:xfrm>
              <a:off x="2438280" y="3413160"/>
              <a:ext cx="399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quire ‘BankAcc.rb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9"/>
            <p:cNvSpPr/>
            <p:nvPr/>
          </p:nvSpPr>
          <p:spPr>
            <a:xfrm flipV="1">
              <a:off x="5333760" y="3688920"/>
              <a:ext cx="0" cy="49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0"/>
            <p:cNvSpPr/>
            <p:nvPr/>
          </p:nvSpPr>
          <p:spPr>
            <a:xfrm>
              <a:off x="4583520" y="4056120"/>
              <a:ext cx="1521720" cy="2764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e to be inclu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3"/>
            <p:cNvSpPr/>
            <p:nvPr/>
          </p:nvSpPr>
          <p:spPr>
            <a:xfrm>
              <a:off x="3660480" y="2962440"/>
              <a:ext cx="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74"/>
            <p:cNvSpPr/>
            <p:nvPr/>
          </p:nvSpPr>
          <p:spPr>
            <a:xfrm>
              <a:off x="2827080" y="2575080"/>
              <a:ext cx="1659960" cy="459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787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eyword 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lude a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9:56:16Z</dcterms:created>
  <dc:creator>PEngin</dc:creator>
  <dc:description>Version 1.6
03.31.03</dc:description>
  <dc:language>en-US</dc:language>
  <cp:lastModifiedBy>Software Manager</cp:lastModifiedBy>
  <dcterms:modified xsi:type="dcterms:W3CDTF">2010-11-29T19:50:20Z</dcterms:modified>
  <cp:revision>73</cp:revision>
  <dc:subject>Courseware Resource Supplement</dc:subject>
  <dc:title>PPT Visuals Template</dc:title>
</cp:coreProperties>
</file>