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6CDFB5-0502-4A90-B076-142C9DC36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D7E735C-6010-4FD5-A9DE-D9E0B43D2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733225-95FD-4EBB-AC51-8DEA967B5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owerPoint Background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92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1 - </a:t>
            </a:r>
            <a:fld id="{CCE60887-5FDC-4AB9-A881-2CEE8109260B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" y="6551640"/>
            <a:ext cx="364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4c4"/>
                </a:solidFill>
                <a:latin typeface="Arial"/>
              </a:rPr>
              <a:t>Copyright © 2010 Element K Content LL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Programming in Ruby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8480" y="1515600"/>
            <a:ext cx="82346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to the Rub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Programs Using Ruby Language Constr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he Flow Using Contro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if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1693800" y="2592360"/>
            <a:ext cx="556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tot_amt&lt;=1000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_amt=(tot_amt)-(tot_amt*0.1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if ((tot_amt&gt;1000) &amp;&amp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tot_amt&lt;=200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_amt=(tot_amt)-(tot_amt*0.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_amt=(tot_amt)-(tot_amt*0.4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 rot="16200000">
            <a:off x="2933640" y="1714320"/>
            <a:ext cx="304560" cy="1600200"/>
          </a:xfrm>
          <a:custGeom>
            <a:avLst/>
            <a:gdLst>
              <a:gd name="textAreaLeft" fmla="*/ 0 w 304560"/>
              <a:gd name="textAreaRight" fmla="*/ 10980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4"/>
          <p:cNvSpPr/>
          <p:nvPr/>
        </p:nvSpPr>
        <p:spPr>
          <a:xfrm>
            <a:off x="2515680" y="1847880"/>
            <a:ext cx="11361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 f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5"/>
          <p:cNvSpPr/>
          <p:nvPr/>
        </p:nvSpPr>
        <p:spPr>
          <a:xfrm flipH="1">
            <a:off x="5714640" y="300024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8"/>
          <p:cNvSpPr/>
          <p:nvPr/>
        </p:nvSpPr>
        <p:spPr>
          <a:xfrm>
            <a:off x="6149160" y="2762280"/>
            <a:ext cx="19713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executed for a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of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5"/>
          <p:cNvSpPr/>
          <p:nvPr/>
        </p:nvSpPr>
        <p:spPr>
          <a:xfrm flipH="1">
            <a:off x="2476080" y="424800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0"/>
          <p:cNvSpPr/>
          <p:nvPr/>
        </p:nvSpPr>
        <p:spPr>
          <a:xfrm>
            <a:off x="537840" y="3962520"/>
            <a:ext cx="20325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executed for a fals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of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if Modifier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971640" y="2736720"/>
            <a:ext cx="7257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_amt=999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dis_amt=(tot_amt)-(tot_amt*0.10) if (tot_amt&lt;=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puts dis_am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2"/>
          <p:cNvSpPr/>
          <p:nvPr/>
        </p:nvSpPr>
        <p:spPr>
          <a:xfrm rot="16200000">
            <a:off x="6048360" y="20682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4"/>
          <p:cNvSpPr/>
          <p:nvPr/>
        </p:nvSpPr>
        <p:spPr>
          <a:xfrm>
            <a:off x="5775840" y="2666880"/>
            <a:ext cx="7736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0"/>
          <p:cNvSpPr/>
          <p:nvPr/>
        </p:nvSpPr>
        <p:spPr>
          <a:xfrm>
            <a:off x="2674800" y="3840120"/>
            <a:ext cx="5616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2"/>
          <p:cNvSpPr/>
          <p:nvPr/>
        </p:nvSpPr>
        <p:spPr>
          <a:xfrm rot="5400000">
            <a:off x="2809440" y="1725480"/>
            <a:ext cx="304560" cy="3886200"/>
          </a:xfrm>
          <a:custGeom>
            <a:avLst/>
            <a:gdLst>
              <a:gd name="textAreaLeft" fmla="*/ 0 w 304560"/>
              <a:gd name="textAreaRight" fmla="*/ 109800 w 3045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unless...else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2666880" y="2765520"/>
            <a:ext cx="5029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tot_amt=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unless (tot_amt&lt;=1000) then dis_amt=(tot_amt)-(tot_amt*0.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dis_amt=(tot_amt)-(tot_amt*0.4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puts dis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3"/>
          <p:cNvSpPr/>
          <p:nvPr/>
        </p:nvSpPr>
        <p:spPr>
          <a:xfrm>
            <a:off x="4587840" y="255888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4"/>
          <p:cNvSpPr/>
          <p:nvPr/>
        </p:nvSpPr>
        <p:spPr>
          <a:xfrm>
            <a:off x="3752640" y="2276640"/>
            <a:ext cx="16635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 for unle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7"/>
          <p:cNvSpPr/>
          <p:nvPr/>
        </p:nvSpPr>
        <p:spPr>
          <a:xfrm>
            <a:off x="3083040" y="392436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071000" y="3676680"/>
            <a:ext cx="20325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executed for a fals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of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unless Modifier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1009800" y="3016080"/>
            <a:ext cx="7124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tot_amt=120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dis_amt=(tot_amt)-(tot_amt*0.10) unless (tot_amt&lt;=1000)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puts dis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2"/>
          <p:cNvSpPr/>
          <p:nvPr/>
        </p:nvSpPr>
        <p:spPr>
          <a:xfrm rot="16200000">
            <a:off x="6343560" y="2114280"/>
            <a:ext cx="228600" cy="2552760"/>
          </a:xfrm>
          <a:custGeom>
            <a:avLst/>
            <a:gdLst>
              <a:gd name="textAreaLeft" fmla="*/ 0 w 228600"/>
              <a:gd name="textAreaRight" fmla="*/ 82440 w 228600"/>
              <a:gd name="textAreaTop" fmla="*/ 66240 h 2552760"/>
              <a:gd name="textAreaBottom" fmla="*/ 2486520 h 255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4"/>
          <p:cNvSpPr/>
          <p:nvPr/>
        </p:nvSpPr>
        <p:spPr>
          <a:xfrm>
            <a:off x="5769000" y="2951280"/>
            <a:ext cx="13266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less mod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2741760" y="4133880"/>
            <a:ext cx="5616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2"/>
          <p:cNvSpPr/>
          <p:nvPr/>
        </p:nvSpPr>
        <p:spPr>
          <a:xfrm rot="5400000">
            <a:off x="2857320" y="2095200"/>
            <a:ext cx="304920" cy="3733920"/>
          </a:xfrm>
          <a:custGeom>
            <a:avLst/>
            <a:gdLst>
              <a:gd name="textAreaLeft" fmla="*/ 0 w 304920"/>
              <a:gd name="textAreaRight" fmla="*/ 110160 w 30492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44"/>
                </a:lnTo>
                <a:cubicBezTo>
                  <a:pt x="10800" y="9844"/>
                  <a:pt x="16200" y="10744"/>
                  <a:pt x="21600" y="10744"/>
                </a:cubicBezTo>
                <a:cubicBezTo>
                  <a:pt x="16200" y="10744"/>
                  <a:pt x="10800" y="11644"/>
                  <a:pt x="10800" y="125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case..when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Text Box 37"/>
          <p:cNvSpPr/>
          <p:nvPr/>
        </p:nvSpPr>
        <p:spPr>
          <a:xfrm>
            <a:off x="1760400" y="1587600"/>
            <a:ext cx="4915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tot_amt =  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case tot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when 0 .. 1000 then dis_amt=(tot_amt)-(tot_amt*0.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when 1000 .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dis_amt=(tot_amt)-(tot_amt*0.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when 2000 .. 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dis_amt=(tot_amt)-(tot_amt*0.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when 5000 .. 1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dis_amt=(tot_amt)-(tot_amt*0.14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dis_amt=(tot_amt)-(tot_amt*0.4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puts dis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9"/>
          <p:cNvSpPr/>
          <p:nvPr/>
        </p:nvSpPr>
        <p:spPr>
          <a:xfrm>
            <a:off x="3970440" y="374184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1"/>
          <p:cNvSpPr/>
          <p:nvPr/>
        </p:nvSpPr>
        <p:spPr>
          <a:xfrm>
            <a:off x="6485040" y="3728880"/>
            <a:ext cx="0" cy="71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2"/>
          <p:cNvSpPr/>
          <p:nvPr/>
        </p:nvSpPr>
        <p:spPr>
          <a:xfrm>
            <a:off x="4122720" y="443376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9"/>
          <p:cNvSpPr/>
          <p:nvPr/>
        </p:nvSpPr>
        <p:spPr>
          <a:xfrm>
            <a:off x="6485040" y="40784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9"/>
          <p:cNvSpPr/>
          <p:nvPr/>
        </p:nvSpPr>
        <p:spPr>
          <a:xfrm>
            <a:off x="6715800" y="3833640"/>
            <a:ext cx="23403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e expression is compar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the when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3"/>
          <p:cNvSpPr/>
          <p:nvPr/>
        </p:nvSpPr>
        <p:spPr>
          <a:xfrm flipH="1">
            <a:off x="1600200" y="5076720"/>
            <a:ext cx="247680" cy="533520"/>
          </a:xfrm>
          <a:custGeom>
            <a:avLst/>
            <a:gdLst>
              <a:gd name="textAreaLeft" fmla="*/ 0 w 247680"/>
              <a:gd name="textAreaRight" fmla="*/ 89280 w 2476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81000" y="5010120"/>
            <a:ext cx="151272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executed f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lse nature of al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3"/>
          <p:cNvSpPr/>
          <p:nvPr/>
        </p:nvSpPr>
        <p:spPr>
          <a:xfrm>
            <a:off x="3086280" y="142884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8"/>
          <p:cNvSpPr/>
          <p:nvPr/>
        </p:nvSpPr>
        <p:spPr>
          <a:xfrm>
            <a:off x="2442240" y="1066680"/>
            <a:ext cx="12855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ression f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e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while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2685960" y="235584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Enter the maximum number of bean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=gets.to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type&lt;=max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Enter the name of the bean: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=gets.to_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=type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5"/>
          <p:cNvSpPr/>
          <p:nvPr/>
        </p:nvSpPr>
        <p:spPr>
          <a:xfrm flipH="1">
            <a:off x="4285800" y="2816280"/>
            <a:ext cx="314280" cy="31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6"/>
          <p:cNvSpPr/>
          <p:nvPr/>
        </p:nvSpPr>
        <p:spPr>
          <a:xfrm>
            <a:off x="4461120" y="2673360"/>
            <a:ext cx="12916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le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2"/>
          <p:cNvSpPr/>
          <p:nvPr/>
        </p:nvSpPr>
        <p:spPr>
          <a:xfrm rot="10800000">
            <a:off x="2437920" y="342900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9"/>
          <p:cNvSpPr/>
          <p:nvPr/>
        </p:nvSpPr>
        <p:spPr>
          <a:xfrm>
            <a:off x="949680" y="3591000"/>
            <a:ext cx="148824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executed til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le condi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comes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while Modifier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2762280" y="2160720"/>
            <a:ext cx="5162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Enter the maximum number of bean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=gets.to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Enter the name of the bean: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=gets.to_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=type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Next itera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while type&lt;=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2"/>
          <p:cNvSpPr/>
          <p:nvPr/>
        </p:nvSpPr>
        <p:spPr>
          <a:xfrm rot="10800000">
            <a:off x="2523600" y="297144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9"/>
          <p:cNvSpPr/>
          <p:nvPr/>
        </p:nvSpPr>
        <p:spPr>
          <a:xfrm>
            <a:off x="731160" y="3524400"/>
            <a:ext cx="17762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block preced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le mod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5400000">
            <a:off x="4585680" y="4186080"/>
            <a:ext cx="171360" cy="1095480"/>
          </a:xfrm>
          <a:custGeom>
            <a:avLst/>
            <a:gdLst>
              <a:gd name="textAreaLeft" fmla="*/ 0 w 171360"/>
              <a:gd name="textAreaRight" fmla="*/ 61920 w 171360"/>
              <a:gd name="textAreaTop" fmla="*/ 28440 h 1095480"/>
              <a:gd name="textAreaBottom" fmla="*/ 1067040 h 10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4021200" y="4829040"/>
            <a:ext cx="12916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le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until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2790720" y="2340000"/>
            <a:ext cx="5315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Enter the maximum number of bean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=gets.to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til type&gt;max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Enter the name of the bean: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=gets.to_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=type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Next itera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5"/>
          <p:cNvSpPr/>
          <p:nvPr/>
        </p:nvSpPr>
        <p:spPr>
          <a:xfrm flipH="1">
            <a:off x="4428720" y="2836800"/>
            <a:ext cx="314280" cy="31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6"/>
          <p:cNvSpPr/>
          <p:nvPr/>
        </p:nvSpPr>
        <p:spPr>
          <a:xfrm>
            <a:off x="4600440" y="2693880"/>
            <a:ext cx="123084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i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3"/>
          <p:cNvSpPr/>
          <p:nvPr/>
        </p:nvSpPr>
        <p:spPr>
          <a:xfrm flipH="1">
            <a:off x="2561400" y="3398760"/>
            <a:ext cx="260280" cy="1249560"/>
          </a:xfrm>
          <a:custGeom>
            <a:avLst/>
            <a:gdLst>
              <a:gd name="textAreaLeft" fmla="*/ 0 w 260280"/>
              <a:gd name="textAreaRight" fmla="*/ 93960 w 260280"/>
              <a:gd name="textAreaTop" fmla="*/ 32400 h 1249560"/>
              <a:gd name="textAreaBottom" fmla="*/ 1217160 h 124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843840" y="3695760"/>
            <a:ext cx="170928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block execu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ll condi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comes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until Modifier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2000160" y="3124080"/>
            <a:ext cx="516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#{counter+=1} " until counter&gt;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0"/>
          <p:cNvSpPr/>
          <p:nvPr/>
        </p:nvSpPr>
        <p:spPr>
          <a:xfrm>
            <a:off x="3052800" y="4014720"/>
            <a:ext cx="56160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2"/>
          <p:cNvSpPr/>
          <p:nvPr/>
        </p:nvSpPr>
        <p:spPr>
          <a:xfrm rot="5400000">
            <a:off x="3228840" y="2585880"/>
            <a:ext cx="304920" cy="2533680"/>
          </a:xfrm>
          <a:custGeom>
            <a:avLst/>
            <a:gdLst>
              <a:gd name="textAreaLeft" fmla="*/ 0 w 304920"/>
              <a:gd name="textAreaRight" fmla="*/ 110160 w 304920"/>
              <a:gd name="textAreaTop" fmla="*/ 65880 h 2533680"/>
              <a:gd name="textAreaBottom" fmla="*/ 2467800 h 25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2"/>
          <p:cNvSpPr/>
          <p:nvPr/>
        </p:nvSpPr>
        <p:spPr>
          <a:xfrm rot="16200000">
            <a:off x="5638680" y="228528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0"/>
          <p:cNvSpPr/>
          <p:nvPr/>
        </p:nvSpPr>
        <p:spPr>
          <a:xfrm>
            <a:off x="5184360" y="2798640"/>
            <a:ext cx="11469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il mod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for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Text Box 37"/>
          <p:cNvSpPr/>
          <p:nvPr/>
        </p:nvSpPr>
        <p:spPr>
          <a:xfrm>
            <a:off x="2610000" y="2660760"/>
            <a:ext cx="5162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j in 1.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i in 1..3 do puts "Enter the numbe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=gets.to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=num*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End of inner lo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3"/>
          <p:cNvSpPr/>
          <p:nvPr/>
        </p:nvSpPr>
        <p:spPr>
          <a:xfrm>
            <a:off x="3263760" y="2181240"/>
            <a:ext cx="0" cy="49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4"/>
          <p:cNvSpPr/>
          <p:nvPr/>
        </p:nvSpPr>
        <p:spPr>
          <a:xfrm>
            <a:off x="2733120" y="1838160"/>
            <a:ext cx="1063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5"/>
          <p:cNvSpPr/>
          <p:nvPr/>
        </p:nvSpPr>
        <p:spPr>
          <a:xfrm flipH="1">
            <a:off x="4285800" y="2409840"/>
            <a:ext cx="314280" cy="31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6"/>
          <p:cNvSpPr/>
          <p:nvPr/>
        </p:nvSpPr>
        <p:spPr>
          <a:xfrm>
            <a:off x="4522680" y="2013120"/>
            <a:ext cx="8330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2"/>
          <p:cNvSpPr/>
          <p:nvPr/>
        </p:nvSpPr>
        <p:spPr>
          <a:xfrm rot="10800000">
            <a:off x="2437920" y="327636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9"/>
          <p:cNvSpPr/>
          <p:nvPr/>
        </p:nvSpPr>
        <p:spPr>
          <a:xfrm>
            <a:off x="1208520" y="3610080"/>
            <a:ext cx="11894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block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7"/>
          <p:cNvSpPr/>
          <p:nvPr/>
        </p:nvSpPr>
        <p:spPr>
          <a:xfrm>
            <a:off x="1184400" y="2692440"/>
            <a:ext cx="5562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i = "Hi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num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num=$num+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("#$i! The final value is #$num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Variabl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AutoShape 33"/>
          <p:cNvSpPr/>
          <p:nvPr/>
        </p:nvSpPr>
        <p:spPr>
          <a:xfrm flipH="1" rot="10800000">
            <a:off x="2438280" y="2761920"/>
            <a:ext cx="152640" cy="431640"/>
          </a:xfrm>
          <a:custGeom>
            <a:avLst/>
            <a:gdLst>
              <a:gd name="textAreaLeft" fmla="*/ 360 w 152640"/>
              <a:gd name="textAreaRight" fmla="*/ 55440 w 15264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8"/>
          <p:cNvSpPr/>
          <p:nvPr/>
        </p:nvSpPr>
        <p:spPr>
          <a:xfrm>
            <a:off x="2606400" y="2743200"/>
            <a:ext cx="20066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ing and integ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d i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8"/>
          <p:cNvSpPr/>
          <p:nvPr/>
        </p:nvSpPr>
        <p:spPr>
          <a:xfrm>
            <a:off x="6157440" y="4105440"/>
            <a:ext cx="17611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entifiers us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e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67160" y="3934800"/>
            <a:ext cx="0" cy="407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556000" y="434988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10240" y="3933720"/>
            <a:ext cx="0" cy="408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break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2909880" y="2270160"/>
            <a:ext cx="3343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j in 1.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i in 1.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Enter the numbe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=gets.to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=num*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End of inner loo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3"/>
          <p:cNvSpPr/>
          <p:nvPr/>
        </p:nvSpPr>
        <p:spPr>
          <a:xfrm flipH="1">
            <a:off x="2707560" y="2567160"/>
            <a:ext cx="250920" cy="1676160"/>
          </a:xfrm>
          <a:custGeom>
            <a:avLst/>
            <a:gdLst>
              <a:gd name="textAreaLeft" fmla="*/ -360 w 250920"/>
              <a:gd name="textAreaRight" fmla="*/ 90360 w 250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9"/>
          <p:cNvSpPr/>
          <p:nvPr/>
        </p:nvSpPr>
        <p:spPr>
          <a:xfrm>
            <a:off x="1745640" y="3259080"/>
            <a:ext cx="9183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ner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1"/>
          <p:cNvSpPr/>
          <p:nvPr/>
        </p:nvSpPr>
        <p:spPr>
          <a:xfrm>
            <a:off x="6039000" y="3492360"/>
            <a:ext cx="0" cy="40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2"/>
          <p:cNvSpPr/>
          <p:nvPr/>
        </p:nvSpPr>
        <p:spPr>
          <a:xfrm>
            <a:off x="3809160" y="3886200"/>
            <a:ext cx="2241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8"/>
          <p:cNvSpPr/>
          <p:nvPr/>
        </p:nvSpPr>
        <p:spPr>
          <a:xfrm>
            <a:off x="5029200" y="3165480"/>
            <a:ext cx="19335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 helps exi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ner for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4"/>
          <p:cNvGrpSpPr/>
          <p:nvPr/>
        </p:nvGrpSpPr>
        <p:grpSpPr>
          <a:xfrm>
            <a:off x="5953680" y="4401720"/>
            <a:ext cx="407880" cy="407880"/>
            <a:chOff x="5953680" y="4401720"/>
            <a:chExt cx="407880" cy="407880"/>
          </a:xfrm>
        </p:grpSpPr>
        <p:sp>
          <p:nvSpPr>
            <p:cNvPr id="191" name="Line 105"/>
            <p:cNvSpPr/>
            <p:nvPr/>
          </p:nvSpPr>
          <p:spPr>
            <a:xfrm flipV="1">
              <a:off x="6351840" y="4401720"/>
              <a:ext cx="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06"/>
            <p:cNvSpPr/>
            <p:nvPr/>
          </p:nvSpPr>
          <p:spPr>
            <a:xfrm>
              <a:off x="5953680" y="440208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68"/>
          <p:cNvSpPr/>
          <p:nvPr/>
        </p:nvSpPr>
        <p:spPr>
          <a:xfrm>
            <a:off x="5381640" y="4681440"/>
            <a:ext cx="193356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following brea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ment continue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exe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next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3048120" y="2438280"/>
            <a:ext cx="356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j in 1.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i in 1.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Enter the number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=gets.to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m=num*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3"/>
          <p:cNvSpPr/>
          <p:nvPr/>
        </p:nvSpPr>
        <p:spPr>
          <a:xfrm flipH="1">
            <a:off x="2819520" y="2749680"/>
            <a:ext cx="250560" cy="1676160"/>
          </a:xfrm>
          <a:custGeom>
            <a:avLst/>
            <a:gdLst>
              <a:gd name="textAreaLeft" fmla="*/ 360 w 250560"/>
              <a:gd name="textAreaRight" fmla="*/ 90720 w 25056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1856880" y="3441600"/>
            <a:ext cx="9183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ner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1"/>
          <p:cNvSpPr/>
          <p:nvPr/>
        </p:nvSpPr>
        <p:spPr>
          <a:xfrm>
            <a:off x="5634000" y="33480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2"/>
          <p:cNvSpPr/>
          <p:nvPr/>
        </p:nvSpPr>
        <p:spPr>
          <a:xfrm>
            <a:off x="3656880" y="33526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8"/>
          <p:cNvSpPr/>
          <p:nvPr/>
        </p:nvSpPr>
        <p:spPr>
          <a:xfrm>
            <a:off x="4667400" y="3801960"/>
            <a:ext cx="193356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ips current iter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executes next iteration in the for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redo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Text Box 37"/>
          <p:cNvSpPr/>
          <p:nvPr/>
        </p:nvSpPr>
        <p:spPr>
          <a:xfrm>
            <a:off x="3048120" y="2286000"/>
            <a:ext cx="3028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i in 0.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Enter the value: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=gets.to_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max=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Wrong inpu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2"/>
          <p:cNvSpPr/>
          <p:nvPr/>
        </p:nvSpPr>
        <p:spPr>
          <a:xfrm>
            <a:off x="3675960" y="442116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8"/>
          <p:cNvSpPr/>
          <p:nvPr/>
        </p:nvSpPr>
        <p:spPr>
          <a:xfrm>
            <a:off x="4076640" y="4173480"/>
            <a:ext cx="19335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eats an iter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a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retry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Text Box 37"/>
          <p:cNvSpPr/>
          <p:nvPr/>
        </p:nvSpPr>
        <p:spPr>
          <a:xfrm>
            <a:off x="3828960" y="2771640"/>
            <a:ext cx="302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$i &lt; 10 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("i = #$i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i +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ry if i &gt;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7"/>
          <p:cNvSpPr/>
          <p:nvPr/>
        </p:nvSpPr>
        <p:spPr>
          <a:xfrm>
            <a:off x="3743280" y="370512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9"/>
          <p:cNvSpPr/>
          <p:nvPr/>
        </p:nvSpPr>
        <p:spPr>
          <a:xfrm>
            <a:off x="1560600" y="3343320"/>
            <a:ext cx="2203200" cy="7023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tarts the loop aga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=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when i becom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ter than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Reflective Question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28480" y="1515960"/>
            <a:ext cx="81583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ich Ruby feature do you feel makes Ruby easy to work wi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uby supports several new concepts such as blocks, statement modifiers, and pseudo variables. Of these, which do you think significantly aids a programmer while coding in the langu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onstan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Text Box 37"/>
          <p:cNvSpPr/>
          <p:nvPr/>
        </p:nvSpPr>
        <p:spPr>
          <a:xfrm>
            <a:off x="2743200" y="2641680"/>
            <a:ext cx="5943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Area of a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r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=3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=3.14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area=Pi*$r*$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("The area of the circle is #$area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60240" y="3301920"/>
            <a:ext cx="345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730400" y="3537000"/>
            <a:ext cx="40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43040" y="3797280"/>
            <a:ext cx="407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759120" y="32767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37240" y="32767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8"/>
          <p:cNvSpPr/>
          <p:nvPr/>
        </p:nvSpPr>
        <p:spPr>
          <a:xfrm>
            <a:off x="4960080" y="3301920"/>
            <a:ext cx="16239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of a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not be chan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695160" y="3048120"/>
            <a:ext cx="18086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ant begin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uppercas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Pseudo-Variable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Text Box 37"/>
          <p:cNvSpPr/>
          <p:nvPr/>
        </p:nvSpPr>
        <p:spPr>
          <a:xfrm>
            <a:off x="2743200" y="3089160"/>
            <a:ext cx="5943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true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ue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ea=3.14*5*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"The area of the circle is:",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5440" y="2797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3521160"/>
            <a:ext cx="34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8"/>
          <p:cNvSpPr/>
          <p:nvPr/>
        </p:nvSpPr>
        <p:spPr>
          <a:xfrm>
            <a:off x="844920" y="3191040"/>
            <a:ext cx="159948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be assigned to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pseudo-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8"/>
          <p:cNvSpPr/>
          <p:nvPr/>
        </p:nvSpPr>
        <p:spPr>
          <a:xfrm>
            <a:off x="3149640" y="2352600"/>
            <a:ext cx="13525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-defin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-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Operator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1828800" y="2692440"/>
            <a:ext cx="5867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Area of a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r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=3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area=Pi*$r*$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("The area of the circle is #$area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4934520" y="2908440"/>
            <a:ext cx="8938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79920" y="3505320"/>
            <a:ext cx="0" cy="24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670200" y="3505320"/>
            <a:ext cx="40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13000" y="3035160"/>
            <a:ext cx="0" cy="71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3048120"/>
            <a:ext cx="171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3035160"/>
            <a:ext cx="0" cy="71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90880" y="3904560"/>
            <a:ext cx="0" cy="509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971440" y="4419720"/>
            <a:ext cx="40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8"/>
          <p:cNvSpPr/>
          <p:nvPr/>
        </p:nvSpPr>
        <p:spPr>
          <a:xfrm>
            <a:off x="4045680" y="3352680"/>
            <a:ext cx="8254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8"/>
          <p:cNvSpPr/>
          <p:nvPr/>
        </p:nvSpPr>
        <p:spPr>
          <a:xfrm>
            <a:off x="3358440" y="4276800"/>
            <a:ext cx="8254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omment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Text Box 37"/>
          <p:cNvSpPr/>
          <p:nvPr/>
        </p:nvSpPr>
        <p:spPr>
          <a:xfrm>
            <a:off x="2819520" y="2057400"/>
            <a:ext cx="5562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Variable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i = "Hi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num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num=$num+C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num=$num-C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("The final value is: #{$num}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("#$i! The final value is #{$num}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3"/>
          <p:cNvSpPr/>
          <p:nvPr/>
        </p:nvSpPr>
        <p:spPr>
          <a:xfrm flipH="1">
            <a:off x="2666160" y="3581280"/>
            <a:ext cx="219240" cy="914400"/>
          </a:xfrm>
          <a:custGeom>
            <a:avLst/>
            <a:gdLst>
              <a:gd name="textAreaLeft" fmla="*/ -360 w 219240"/>
              <a:gd name="textAreaRight" fmla="*/ 78840 w 2192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8"/>
          <p:cNvSpPr/>
          <p:nvPr/>
        </p:nvSpPr>
        <p:spPr>
          <a:xfrm>
            <a:off x="634320" y="3800520"/>
            <a:ext cx="20142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within multi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 is not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29160" y="224784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8"/>
          <p:cNvSpPr/>
          <p:nvPr/>
        </p:nvSpPr>
        <p:spPr>
          <a:xfrm>
            <a:off x="5873760" y="2009880"/>
            <a:ext cx="22716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 line comment is val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 for a singl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Method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Text Box 37"/>
          <p:cNvSpPr/>
          <p:nvPr/>
        </p:nvSpPr>
        <p:spPr>
          <a:xfrm>
            <a:off x="2209680" y="2143080"/>
            <a:ext cx="6705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rr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sa=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rf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calculate_amt (rr, sa, r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t=(rr*10)+(sa*15)+(rf*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\tThe total amount spent is: $#{amt}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calculate_amt($rr, $sa, $r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3"/>
          <p:cNvSpPr/>
          <p:nvPr/>
        </p:nvSpPr>
        <p:spPr>
          <a:xfrm flipH="1">
            <a:off x="3009240" y="320040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8"/>
          <p:cNvSpPr/>
          <p:nvPr/>
        </p:nvSpPr>
        <p:spPr>
          <a:xfrm>
            <a:off x="1471320" y="3314880"/>
            <a:ext cx="145008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hod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8"/>
          <p:cNvSpPr/>
          <p:nvPr/>
        </p:nvSpPr>
        <p:spPr>
          <a:xfrm>
            <a:off x="427320" y="2800440"/>
            <a:ext cx="15372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word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define a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0481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3922920" y="4457880"/>
            <a:ext cx="13420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hod invok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ing it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3"/>
          <p:cNvSpPr/>
          <p:nvPr/>
        </p:nvSpPr>
        <p:spPr>
          <a:xfrm flipH="1" rot="16200000">
            <a:off x="4447080" y="2657520"/>
            <a:ext cx="304920" cy="3276360"/>
          </a:xfrm>
          <a:custGeom>
            <a:avLst/>
            <a:gdLst>
              <a:gd name="textAreaLeft" fmla="*/ -360 w 304920"/>
              <a:gd name="textAreaRight" fmla="*/ 109800 w 30492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Blocks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2679840" y="2844720"/>
            <a:ext cx="5562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s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ield 10, 15,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mple{ |rr, sa, rf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t=(rr*10)+(sa*15)+(rf*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 "\tThe total amount spent is: $#{amt}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8"/>
          <p:cNvSpPr/>
          <p:nvPr/>
        </p:nvSpPr>
        <p:spPr>
          <a:xfrm>
            <a:off x="1012320" y="2933640"/>
            <a:ext cx="156312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hod invoking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 car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block'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3"/>
          <p:cNvSpPr/>
          <p:nvPr/>
        </p:nvSpPr>
        <p:spPr>
          <a:xfrm flipH="1">
            <a:off x="2602800" y="2959200"/>
            <a:ext cx="152280" cy="60948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3"/>
          <p:cNvSpPr/>
          <p:nvPr/>
        </p:nvSpPr>
        <p:spPr>
          <a:xfrm flipH="1" rot="5400000">
            <a:off x="4388040" y="3003480"/>
            <a:ext cx="203040" cy="1054080"/>
          </a:xfrm>
          <a:custGeom>
            <a:avLst/>
            <a:gdLst>
              <a:gd name="textAreaLeft" fmla="*/ 0 w 203040"/>
              <a:gd name="textAreaRight" fmla="*/ 73440 w 203040"/>
              <a:gd name="textAreaTop" fmla="*/ 27360 h 1054080"/>
              <a:gd name="textAreaBottom" fmla="*/ 102672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5746"/>
                </a:lnTo>
                <a:cubicBezTo>
                  <a:pt x="10800" y="6646"/>
                  <a:pt x="16200" y="7546"/>
                  <a:pt x="21600" y="7546"/>
                </a:cubicBezTo>
                <a:cubicBezTo>
                  <a:pt x="16200" y="7546"/>
                  <a:pt x="10800" y="8446"/>
                  <a:pt x="10800" y="934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514600"/>
            <a:ext cx="0" cy="95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234440" y="4000680"/>
            <a:ext cx="1325160" cy="2764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3"/>
          <p:cNvSpPr/>
          <p:nvPr/>
        </p:nvSpPr>
        <p:spPr>
          <a:xfrm flipH="1">
            <a:off x="2602800" y="3689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8"/>
          <p:cNvSpPr/>
          <p:nvPr/>
        </p:nvSpPr>
        <p:spPr>
          <a:xfrm>
            <a:off x="3510000" y="2362320"/>
            <a:ext cx="227016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 of block defi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in pip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The yield Statemen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37"/>
          <p:cNvSpPr/>
          <p:nvPr/>
        </p:nvSpPr>
        <p:spPr>
          <a:xfrm>
            <a:off x="2946240" y="2946240"/>
            <a:ext cx="5562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s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ield 10,15,20 if block_giv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mple{  |rr, sa, rf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t=(rr*10)+(sa*15)+(rf*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 "The total amount spent is: $#{amt}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32120" y="3390840"/>
            <a:ext cx="799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70680" y="2781360"/>
            <a:ext cx="0" cy="49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8"/>
          <p:cNvSpPr/>
          <p:nvPr/>
        </p:nvSpPr>
        <p:spPr>
          <a:xfrm>
            <a:off x="1666440" y="3152880"/>
            <a:ext cx="12661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ed with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8"/>
          <p:cNvSpPr/>
          <p:nvPr/>
        </p:nvSpPr>
        <p:spPr>
          <a:xfrm>
            <a:off x="4912920" y="2428920"/>
            <a:ext cx="23022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787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s if a block i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ed before being invo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9:56:16Z</dcterms:created>
  <dc:creator>PEngin</dc:creator>
  <dc:description>Version 1.6
03.31.03</dc:description>
  <dc:language>en-US</dc:language>
  <cp:lastModifiedBy>Software Manager</cp:lastModifiedBy>
  <dcterms:modified xsi:type="dcterms:W3CDTF">2010-11-29T19:50:35Z</dcterms:modified>
  <cp:revision>132</cp:revision>
  <dc:subject>Courseware Resource Supplement</dc:subject>
  <dc:title>PPT Visuals Template</dc:title>
</cp:coreProperties>
</file>