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124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8772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4035600" y="0"/>
            <a:ext cx="308736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209240" y="704520"/>
            <a:ext cx="470556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937360"/>
            <a:ext cx="308772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035600" y="8937360"/>
            <a:ext cx="308736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356A524-1A1B-488D-B9A5-5A6EDC632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CD3D2BE-47A6-41EA-9279-DF5E258C5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PowerPoint Background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927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360" y="6551640"/>
            <a:ext cx="3642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4c4c4"/>
                </a:solidFill>
                <a:latin typeface="Arial"/>
              </a:rPr>
              <a:t>Copyright © 2010 Element K Content LL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ourse Outlin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28480" y="1185480"/>
            <a:ext cx="8158320" cy="48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ing in Ru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ing in Ruby Using OOPs Conce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ing Threads and Handling Exce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ting Started with R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ing a Web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19:56:16Z</dcterms:created>
  <dc:creator>PEngin</dc:creator>
  <dc:description>Version 1.6
03.31.03</dc:description>
  <dc:language>en-US</dc:language>
  <cp:lastModifiedBy>Rajarams</cp:lastModifiedBy>
  <dcterms:modified xsi:type="dcterms:W3CDTF">2010-11-22T06:36:24Z</dcterms:modified>
  <cp:revision>12</cp:revision>
  <dc:subject>Courseware Resource Supplement</dc:subject>
  <dc:title>PPT Visuals Template</dc:title>
</cp:coreProperties>
</file>