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178840" y="6551640"/>
            <a:ext cx="9651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Times New Roman"/>
              </a:rPr>
              <a:t>OV 4 - </a:t>
            </a:r>
            <a:fld id="{3483DBAE-3B0E-448D-ABF4-35FC92F3EEF4}" type="slidenum">
              <a:rPr b="0" lang="en-US" sz="800" spc="-1" strike="noStrike">
                <a:solidFill>
                  <a:srgbClr val="c4c4c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6551640"/>
            <a:ext cx="3647880" cy="236520"/>
            <a:chOff x="-9360" y="6551640"/>
            <a:chExt cx="3647880" cy="236520"/>
          </a:xfrm>
        </p:grpSpPr>
        <p:sp>
          <p:nvSpPr>
            <p:cNvPr id="3" name=""/>
            <p:cNvSpPr/>
            <p:nvPr/>
          </p:nvSpPr>
          <p:spPr>
            <a:xfrm>
              <a:off x="0" y="6551640"/>
              <a:ext cx="3638520" cy="23652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9360" y="6551640"/>
              <a:ext cx="3644640" cy="233280"/>
              <a:chOff x="-9360" y="6551640"/>
              <a:chExt cx="3644640" cy="2332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6551640"/>
                <a:ext cx="3635280" cy="233280"/>
              </a:xfrm>
              <a:prstGeom prst="roundRect">
                <a:avLst>
                  <a:gd name="adj" fmla="val 6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-9360" y="6551640"/>
                <a:ext cx="3643200" cy="231840"/>
                <a:chOff x="-9360" y="6551640"/>
                <a:chExt cx="3643200" cy="2318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0" y="6551640"/>
                  <a:ext cx="3633840" cy="231840"/>
                </a:xfrm>
                <a:prstGeom prst="roundRect">
                  <a:avLst>
                    <a:gd name="adj" fmla="val 68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"/>
                <p:cNvGrpSpPr/>
                <p:nvPr/>
              </p:nvGrpSpPr>
              <p:grpSpPr>
                <a:xfrm>
                  <a:off x="-9360" y="6551640"/>
                  <a:ext cx="3643200" cy="231840"/>
                  <a:chOff x="-9360" y="6551640"/>
                  <a:chExt cx="3643200" cy="23184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0" y="6551640"/>
                    <a:ext cx="3633840" cy="231840"/>
                  </a:xfrm>
                  <a:prstGeom prst="roundRect">
                    <a:avLst>
                      <a:gd name="adj" fmla="val 6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-9360" y="6551640"/>
                    <a:ext cx="3643200" cy="231120"/>
                  </a:xfrm>
                  <a:prstGeom prst="roundRect">
                    <a:avLst>
                      <a:gd name="adj" fmla="val 6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c4c4c4"/>
                        </a:solidFill>
                        <a:latin typeface="Arial"/>
                      </a:rPr>
                      <a:t>Copyright © 2009 Element K Content LLC. All rights reserved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ff99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Messages Using the Address 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Mail Gro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Cont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Working with Address Book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Address Information Sharing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390840" cy="4284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4952880" y="2209680"/>
            <a:ext cx="0" cy="65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73920" y="1971720"/>
            <a:ext cx="1299240" cy="459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Add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lector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791320" y="3559320"/>
            <a:ext cx="63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18080" y="3301920"/>
            <a:ext cx="18892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with wh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book is 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rot="16200000">
            <a:off x="4533840" y="3868920"/>
            <a:ext cx="225360" cy="2612880"/>
          </a:xfrm>
          <a:custGeom>
            <a:avLst/>
            <a:gdLst>
              <a:gd name="textAreaLeft" fmla="*/ 0 w 225360"/>
              <a:gd name="textAreaRight" fmla="*/ 81360 w 225360"/>
              <a:gd name="textAreaTop" fmla="*/ 68040 h 2612880"/>
              <a:gd name="textAreaBottom" fmla="*/ 2544840 h 26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48200" y="5311800"/>
            <a:ext cx="118368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ccess r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The Address Selector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35240" y="1433520"/>
            <a:ext cx="4789440" cy="4037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2629080" y="1785960"/>
            <a:ext cx="263520" cy="797040"/>
          </a:xfrm>
          <a:custGeom>
            <a:avLst/>
            <a:gdLst>
              <a:gd name="textAreaLeft" fmla="*/ 0 w 263520"/>
              <a:gd name="textAreaRight" fmla="*/ 95040 w 26352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71000" y="2187720"/>
            <a:ext cx="695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96400" y="1930320"/>
            <a:ext cx="12596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il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94120" y="2967120"/>
            <a:ext cx="193680" cy="1622520"/>
          </a:xfrm>
          <a:custGeom>
            <a:avLst/>
            <a:gdLst>
              <a:gd name="textAreaLeft" fmla="*/ 0 w 193680"/>
              <a:gd name="textAreaRight" fmla="*/ 69840 w 193680"/>
              <a:gd name="textAreaTop" fmla="*/ 42120 h 1622520"/>
              <a:gd name="textAreaBottom" fmla="*/ 15804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12280" y="3530520"/>
            <a:ext cx="6807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Mail Group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848040" cy="397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62160" y="2009880"/>
            <a:ext cx="695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5400" y="1854360"/>
            <a:ext cx="16498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 mai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33800" y="2959200"/>
            <a:ext cx="10800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p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197400" y="311472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89400" y="4122720"/>
            <a:ext cx="257040" cy="974880"/>
          </a:xfrm>
          <a:custGeom>
            <a:avLst/>
            <a:gdLst>
              <a:gd name="textAreaLeft" fmla="*/ 0 w 257040"/>
              <a:gd name="textAreaRight" fmla="*/ 92880 w 257040"/>
              <a:gd name="textAreaTop" fmla="*/ 25200 h 974880"/>
              <a:gd name="textAreaBottom" fmla="*/ 949680 h 97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92160" y="4356000"/>
            <a:ext cx="9946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l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41360" y="122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at important details can be entered and saved in your Contact properti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at are the mail groups that you would create for official communication purpos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ftware Manager</cp:lastModifiedBy>
  <dcterms:modified xsi:type="dcterms:W3CDTF">2009-04-15T13:22:26Z</dcterms:modified>
  <cp:revision>27</cp:revision>
  <dc:subject/>
  <dc:title>Slide 1</dc:title>
</cp:coreProperties>
</file>