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OV 6 - </a:t>
            </a:r>
            <a:fld id="{AFE41342-6A21-4A6D-B5F6-241CDCDEEE66}" type="slidenum"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6551640"/>
            <a:ext cx="3647880" cy="236520"/>
            <a:chOff x="-9360" y="6551640"/>
            <a:chExt cx="3647880" cy="236520"/>
          </a:xfrm>
        </p:grpSpPr>
        <p:sp>
          <p:nvSpPr>
            <p:cNvPr id="3" name="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9360" y="6551640"/>
              <a:ext cx="3644640" cy="233280"/>
              <a:chOff x="-9360" y="6551640"/>
              <a:chExt cx="3644640" cy="2332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-9360" y="6551640"/>
                <a:ext cx="3643200" cy="231840"/>
                <a:chOff x="-9360" y="6551640"/>
                <a:chExt cx="3643200" cy="2318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0" y="6551640"/>
                  <a:ext cx="36338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-9360" y="6551640"/>
                  <a:ext cx="3643200" cy="231840"/>
                  <a:chOff x="-9360" y="6551640"/>
                  <a:chExt cx="3643200" cy="23184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0" y="6551640"/>
                    <a:ext cx="3633840" cy="23184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-9360" y="6551640"/>
                    <a:ext cx="3643200" cy="23112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c4c4c4"/>
                        </a:solidFill>
                        <a:latin typeface="Arial"/>
                      </a:rPr>
                      <a:t>Copyright © 2009 Element K Content LLC. All rights reserved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99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 Resource for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-User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Using Resources and Multi-User View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GroupWise Resourc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00160" y="1546200"/>
            <a:ext cx="704700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2438280" y="4191120"/>
            <a:ext cx="152640" cy="990360"/>
          </a:xfrm>
          <a:custGeom>
            <a:avLst/>
            <a:gdLst>
              <a:gd name="textAreaLeft" fmla="*/ 360 w 152640"/>
              <a:gd name="textAreaRight" fmla="*/ 5544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1720" y="4432320"/>
            <a:ext cx="1037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W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Multi-User View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00" y="1260360"/>
            <a:ext cx="7047000" cy="438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37360" y="3289320"/>
            <a:ext cx="216000" cy="209556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95560"/>
              <a:gd name="textAreaBottom" fmla="*/ 2041200 h 20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68840" y="4102200"/>
            <a:ext cx="1643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s sche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multipl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Resource Rul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3240" y="1346040"/>
            <a:ext cx="4560840" cy="4210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6668640" y="2328840"/>
            <a:ext cx="6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4880" y="2160720"/>
            <a:ext cx="596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643800" y="3370320"/>
            <a:ext cx="63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54920" y="3201840"/>
            <a:ext cx="10188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41560" y="4449600"/>
            <a:ext cx="6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88680" y="4205160"/>
            <a:ext cx="11559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action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Busy Search method will you tend to use before scheduling a meet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ist some important benefits of using resource r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25:11Z</dcterms:modified>
  <cp:revision>30</cp:revision>
  <dc:subject/>
  <dc:title>Slide 1</dc:title>
</cp:coreProperties>
</file>