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01600"/>
            <a:ext cx="6846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5F4701FE-416F-422B-BB8F-0B29F1FBB4F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4680" y="6551640"/>
            <a:ext cx="3644640" cy="237960"/>
            <a:chOff x="-4680" y="6551640"/>
            <a:chExt cx="3644640" cy="23796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9960" cy="23796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-4680" y="6551640"/>
              <a:ext cx="3643200" cy="236520"/>
              <a:chOff x="-4680" y="6551640"/>
              <a:chExt cx="3643200" cy="236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8520" cy="2365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-4680" y="6551640"/>
                <a:ext cx="3643200" cy="236520"/>
                <a:chOff x="-4680" y="6551640"/>
                <a:chExt cx="3643200" cy="2365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0" y="6551640"/>
                  <a:ext cx="3638520" cy="2365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AutoShape 9"/>
                <p:cNvSpPr/>
                <p:nvPr/>
              </p:nvSpPr>
              <p:spPr>
                <a:xfrm>
                  <a:off x="-4680" y="6551640"/>
                  <a:ext cx="3643200" cy="2311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4c4c4"/>
                      </a:solidFill>
                      <a:latin typeface="Arial"/>
                    </a:rPr>
                    <a:t>Copyright © 2009 Element K Content LLC. All rights reserve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the GroupWise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the GroupWise Help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Getting Started with GroupWise</a:t>
            </a:r>
            <a:r>
              <a:rPr b="0" i="1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GroupWise Main Window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Picture 2" descr="C:\Documents and Settings\student\Desktop\l1\1.png"/>
          <p:cNvPicPr/>
          <p:nvPr/>
        </p:nvPicPr>
        <p:blipFill>
          <a:blip r:embed="rId1"/>
          <a:stretch/>
        </p:blipFill>
        <p:spPr>
          <a:xfrm>
            <a:off x="1752480" y="1587600"/>
            <a:ext cx="7048800" cy="438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7440" y="2057400"/>
            <a:ext cx="7581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 B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3200" y="4724280"/>
            <a:ext cx="9608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der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040" y="1219320"/>
            <a:ext cx="875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58720" y="1547640"/>
            <a:ext cx="407880" cy="408240"/>
            <a:chOff x="1458720" y="1547640"/>
            <a:chExt cx="407880" cy="408240"/>
          </a:xfrm>
        </p:grpSpPr>
        <p:sp>
          <p:nvSpPr>
            <p:cNvPr id="55" name=""/>
            <p:cNvSpPr/>
            <p:nvPr/>
          </p:nvSpPr>
          <p:spPr>
            <a:xfrm>
              <a:off x="1468440" y="1547640"/>
              <a:ext cx="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458720" y="195588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71600" y="221616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85080" y="2357280"/>
            <a:ext cx="174600" cy="632160"/>
          </a:xfrm>
          <a:custGeom>
            <a:avLst/>
            <a:gdLst>
              <a:gd name="textAreaLeft" fmla="*/ 0 w 174600"/>
              <a:gd name="textAreaRight" fmla="*/ 63000 w 174600"/>
              <a:gd name="textAreaTop" fmla="*/ 16200 h 632160"/>
              <a:gd name="textAreaBottom" fmla="*/ 615960 h 63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04840" y="267336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4640" y="2514600"/>
            <a:ext cx="7401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b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 rot="5400000">
            <a:off x="6216840" y="807840"/>
            <a:ext cx="308160" cy="4721400"/>
          </a:xfrm>
          <a:custGeom>
            <a:avLst/>
            <a:gdLst>
              <a:gd name="textAreaLeft" fmla="*/ 360 w 308160"/>
              <a:gd name="textAreaRight" fmla="*/ 111600 w 308160"/>
              <a:gd name="textAreaTop" fmla="*/ 123120 h 4721400"/>
              <a:gd name="textAreaBottom" fmla="*/ 4598280 h 472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98760" y="4021200"/>
            <a:ext cx="225360" cy="1711440"/>
          </a:xfrm>
          <a:custGeom>
            <a:avLst/>
            <a:gdLst>
              <a:gd name="textAreaLeft" fmla="*/ 0 w 225360"/>
              <a:gd name="textAreaRight" fmla="*/ 81360 w 225360"/>
              <a:gd name="textAreaTop" fmla="*/ 44640 h 1711440"/>
              <a:gd name="textAreaBottom" fmla="*/ 166680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9080" y="2692440"/>
            <a:ext cx="80856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em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features in GroupWise would help you set up effective online communications in your work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do you use the GroupWise Help system to avail yourself of any support inform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17:27Z</dcterms:modified>
  <cp:revision>33</cp:revision>
  <dc:subject/>
  <dc:title>Callouts and Arrows</dc:title>
</cp:coreProperties>
</file>