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01600"/>
            <a:ext cx="6846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6D9141B9-0FA4-44A8-AC4D-9BBE4578CF49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4680" y="6551640"/>
            <a:ext cx="3644640" cy="237960"/>
            <a:chOff x="-4680" y="6551640"/>
            <a:chExt cx="3644640" cy="23796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9960" cy="23796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-4680" y="6551640"/>
              <a:ext cx="3643200" cy="236520"/>
              <a:chOff x="-4680" y="6551640"/>
              <a:chExt cx="3643200" cy="236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8520" cy="2365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-4680" y="6551640"/>
                <a:ext cx="3643200" cy="236520"/>
                <a:chOff x="-4680" y="6551640"/>
                <a:chExt cx="3643200" cy="2365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0" y="6551640"/>
                  <a:ext cx="3638520" cy="2365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AutoShape 9"/>
                <p:cNvSpPr/>
                <p:nvPr/>
              </p:nvSpPr>
              <p:spPr>
                <a:xfrm>
                  <a:off x="-4680" y="6551640"/>
                  <a:ext cx="3643200" cy="2311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4c4c4"/>
                      </a:solidFill>
                      <a:latin typeface="Arial"/>
                    </a:rPr>
                    <a:t>Copyright © 2009 Element K Content LLC. All rights reserve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Task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I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lor-Coded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I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Fol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Junk Mail Hand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anaging Messag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Trash Fold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Picture 2" descr="C:\Documents and Settings\student\Desktop\l3\10.png"/>
          <p:cNvPicPr/>
          <p:nvPr/>
        </p:nvPicPr>
        <p:blipFill>
          <a:blip r:embed="rId1"/>
          <a:stretch/>
        </p:blipFill>
        <p:spPr>
          <a:xfrm>
            <a:off x="77796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899120" y="3086280"/>
            <a:ext cx="1089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eted i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405200" y="32432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Undelete Op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Picture 2" descr="C:\Documents and Settings\student\Desktop\l3\12.png"/>
          <p:cNvPicPr/>
          <p:nvPr/>
        </p:nvPicPr>
        <p:blipFill>
          <a:blip r:embed="rId1"/>
          <a:stretch/>
        </p:blipFill>
        <p:spPr>
          <a:xfrm>
            <a:off x="104472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5005080" y="453852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8560" y="4381560"/>
            <a:ext cx="16466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Undelete o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Create Personal Folder Dialog Box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Picture 2" descr="C:\Documents and Settings\student\Desktop\l3\13.png"/>
          <p:cNvPicPr/>
          <p:nvPr/>
        </p:nvPicPr>
        <p:blipFill>
          <a:blip r:embed="rId1"/>
          <a:stretch/>
        </p:blipFill>
        <p:spPr>
          <a:xfrm>
            <a:off x="2468520" y="1422360"/>
            <a:ext cx="4200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Junk Mail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9920" y="1581120"/>
            <a:ext cx="7047000" cy="438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4520" y="53276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7200" y="5079960"/>
            <a:ext cx="929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k mai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78960" y="6032520"/>
            <a:ext cx="9291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k mai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54520" y="5235120"/>
            <a:ext cx="0" cy="77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Junk Mail Handl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Picture 2" descr="C:\Documents and Settings\student\Desktop\l3\15.png"/>
          <p:cNvPicPr/>
          <p:nvPr/>
        </p:nvPicPr>
        <p:blipFill>
          <a:blip r:embed="rId1"/>
          <a:stretch/>
        </p:blipFill>
        <p:spPr>
          <a:xfrm>
            <a:off x="2016000" y="1069920"/>
            <a:ext cx="5105520" cy="531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41400" y="25970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440" y="2349360"/>
            <a:ext cx="16239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junk mail fo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Junk Lis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19240" y="2225520"/>
            <a:ext cx="5105520" cy="2838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52880" y="4711680"/>
            <a:ext cx="1515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nk mail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6480" y="3914280"/>
            <a:ext cx="0" cy="77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28840" y="3216240"/>
            <a:ext cx="45432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68600" y="3162240"/>
            <a:ext cx="11224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nk dom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46040" y="2165400"/>
            <a:ext cx="5105520" cy="293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Block Lists and Trust Lis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6645600" y="3390840"/>
            <a:ext cx="1261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addre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be blo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946840" y="3643200"/>
            <a:ext cx="68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Block Lists and Trust Lists (Cont.)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28880" y="2209680"/>
            <a:ext cx="5105160" cy="3124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5769000" y="3668760"/>
            <a:ext cx="68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2600" y="3327480"/>
            <a:ext cx="173376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addre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be trusted ev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n the Junk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Junk Mail Dele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2" descr="C:\Documents and Settings\student\Desktop\l3\19.png"/>
          <p:cNvPicPr/>
          <p:nvPr/>
        </p:nvPicPr>
        <p:blipFill>
          <a:blip r:embed="rId1"/>
          <a:stretch/>
        </p:blipFill>
        <p:spPr>
          <a:xfrm>
            <a:off x="3095640" y="1069920"/>
            <a:ext cx="5105520" cy="5315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55800" y="3871800"/>
            <a:ext cx="65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2640" y="3606840"/>
            <a:ext cx="2047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delete junk mai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68760" y="4710240"/>
            <a:ext cx="65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4470480"/>
            <a:ext cx="1384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en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Block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rchiv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2" descr="C:\Documents and Settings\student\Desktop\l3\20.png"/>
          <p:cNvPicPr/>
          <p:nvPr/>
        </p:nvPicPr>
        <p:blipFill>
          <a:blip r:embed="rId1"/>
          <a:stretch/>
        </p:blipFill>
        <p:spPr>
          <a:xfrm>
            <a:off x="2849400" y="1498680"/>
            <a:ext cx="5038920" cy="44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87600" y="2538360"/>
            <a:ext cx="65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7040" y="2387520"/>
            <a:ext cx="1581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tion of arch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Tasklist Fold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Picture 2" descr="C:\Documents and Settings\student\Desktop\l3\1.png"/>
          <p:cNvPicPr/>
          <p:nvPr/>
        </p:nvPicPr>
        <p:blipFill>
          <a:blip r:embed="rId1"/>
          <a:stretch/>
        </p:blipFill>
        <p:spPr>
          <a:xfrm>
            <a:off x="104472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3454560"/>
            <a:ext cx="18784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 box for mark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d t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419720"/>
            <a:ext cx="544320" cy="54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160" y="4211640"/>
            <a:ext cx="121716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list fo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6240" y="3576600"/>
            <a:ext cx="11926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list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4520" y="3462480"/>
            <a:ext cx="149040" cy="517320"/>
          </a:xfrm>
          <a:custGeom>
            <a:avLst/>
            <a:gdLst>
              <a:gd name="textAreaLeft" fmla="*/ 0 w 149040"/>
              <a:gd name="textAreaRight" fmla="*/ 53640 w 149040"/>
              <a:gd name="textAreaTop" fmla="*/ 13320 h 517320"/>
              <a:gd name="textAreaBottom" fmla="*/ 5040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18680" y="3449520"/>
            <a:ext cx="142920" cy="517680"/>
          </a:xfrm>
          <a:custGeom>
            <a:avLst/>
            <a:gdLst>
              <a:gd name="textAreaLeft" fmla="*/ 0 w 142920"/>
              <a:gd name="textAreaRight" fmla="*/ 51480 w 142920"/>
              <a:gd name="textAreaTop" fmla="*/ 13320 h 517680"/>
              <a:gd name="textAreaBottom" fmla="*/ 5043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utomatic Archiv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Picture 2" descr="C:\Documents and Settings\student\Desktop\l3\22.png"/>
          <p:cNvPicPr/>
          <p:nvPr/>
        </p:nvPicPr>
        <p:blipFill>
          <a:blip r:embed="rId1"/>
          <a:stretch/>
        </p:blipFill>
        <p:spPr>
          <a:xfrm>
            <a:off x="2824200" y="1549440"/>
            <a:ext cx="5038560" cy="4457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2771640" y="2928960"/>
            <a:ext cx="47952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7720" y="3300480"/>
            <a:ext cx="43344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9760" y="2984400"/>
            <a:ext cx="200664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 to archive item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at th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ed interv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2640" y="3995640"/>
            <a:ext cx="149400" cy="517680"/>
          </a:xfrm>
          <a:custGeom>
            <a:avLst/>
            <a:gdLst>
              <a:gd name="textAreaLeft" fmla="*/ 0 w 149400"/>
              <a:gd name="textAreaRight" fmla="*/ 54000 w 149400"/>
              <a:gd name="textAreaTop" fmla="*/ 13320 h 517680"/>
              <a:gd name="textAreaBottom" fmla="*/ 5043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66160" y="4013280"/>
            <a:ext cx="1573560" cy="459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ons to empt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sh automatic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do you prevent receiving junk mail to your Mailbox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can you preserve your email and at the same time reduce the resource drain on your mail ser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Due Dates for Tasklist Item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Picture 2" descr="C:\Documents and Settings\student\Desktop\l3\2.png"/>
          <p:cNvPicPr/>
          <p:nvPr/>
        </p:nvPicPr>
        <p:blipFill>
          <a:blip r:embed="rId1"/>
          <a:stretch/>
        </p:blipFill>
        <p:spPr>
          <a:xfrm>
            <a:off x="2000160" y="1722600"/>
            <a:ext cx="5619960" cy="4010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12520" y="3645000"/>
            <a:ext cx="960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d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an i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8480" y="3911760"/>
            <a:ext cx="1514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mark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em a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38360" y="294012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2160" y="2781360"/>
            <a:ext cx="1360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 of an i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8160" y="3265200"/>
            <a:ext cx="839880" cy="407880"/>
            <a:chOff x="1298160" y="3265200"/>
            <a:chExt cx="839880" cy="407880"/>
          </a:xfrm>
        </p:grpSpPr>
        <p:sp>
          <p:nvSpPr>
            <p:cNvPr id="64" name=""/>
            <p:cNvSpPr/>
            <p:nvPr/>
          </p:nvSpPr>
          <p:spPr>
            <a:xfrm flipV="1">
              <a:off x="1305000" y="3265200"/>
              <a:ext cx="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298160" y="3274920"/>
              <a:ext cx="83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flipV="1">
            <a:off x="7218360" y="3013200"/>
            <a:ext cx="0" cy="892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Sort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2" descr="C:\Documents and Settings\student\Desktop\l3\3.png"/>
          <p:cNvPicPr/>
          <p:nvPr/>
        </p:nvPicPr>
        <p:blipFill>
          <a:blip r:embed="rId1"/>
          <a:stretch/>
        </p:blipFill>
        <p:spPr>
          <a:xfrm>
            <a:off x="345960" y="1523880"/>
            <a:ext cx="7048440" cy="4381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496640" y="3200400"/>
            <a:ext cx="1275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ort criter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92680" y="334476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lumn Customiza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2" descr="C:\Documents and Settings\student\Desktop\l3\4.png"/>
          <p:cNvPicPr/>
          <p:nvPr/>
        </p:nvPicPr>
        <p:blipFill>
          <a:blip r:embed="rId1"/>
          <a:stretch/>
        </p:blipFill>
        <p:spPr>
          <a:xfrm>
            <a:off x="1701720" y="2001960"/>
            <a:ext cx="5734080" cy="31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1557360" y="2484360"/>
            <a:ext cx="295200" cy="1749600"/>
          </a:xfrm>
          <a:custGeom>
            <a:avLst/>
            <a:gdLst>
              <a:gd name="textAreaLeft" fmla="*/ 0 w 295200"/>
              <a:gd name="textAreaRight" fmla="*/ 106560 w 295200"/>
              <a:gd name="textAreaTop" fmla="*/ 45360 h 1749600"/>
              <a:gd name="textAreaBottom" fmla="*/ 1704240 h 17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4040" y="3022560"/>
            <a:ext cx="13086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colum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at can 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10440" y="2459160"/>
            <a:ext cx="199800" cy="1177920"/>
          </a:xfrm>
          <a:custGeom>
            <a:avLst/>
            <a:gdLst>
              <a:gd name="textAreaLeft" fmla="*/ 0 w 199800"/>
              <a:gd name="textAreaRight" fmla="*/ 72000 w 199800"/>
              <a:gd name="textAreaTop" fmla="*/ 30600 h 1177920"/>
              <a:gd name="textAreaBottom" fmla="*/ 1147320 h 11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16720" y="305280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73240" y="2717640"/>
            <a:ext cx="13510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colum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disp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15520" y="5372280"/>
            <a:ext cx="2495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preview column wid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5160" y="48794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Find Op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2" descr="C:\Documents and Settings\student\Desktop\l3\5.png"/>
          <p:cNvPicPr/>
          <p:nvPr/>
        </p:nvPicPr>
        <p:blipFill>
          <a:blip r:embed="rId1"/>
          <a:stretch/>
        </p:blipFill>
        <p:spPr>
          <a:xfrm>
            <a:off x="104472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266720" y="2765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6560" y="2616120"/>
            <a:ext cx="16588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ew of a filtered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05600" y="25369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24240" y="2463840"/>
            <a:ext cx="1950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nd Options but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Quick Filter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7" name="Picture 2" descr="C:\Documents and Settings\student\Desktop\l3\7.png"/>
          <p:cNvPicPr/>
          <p:nvPr/>
        </p:nvPicPr>
        <p:blipFill>
          <a:blip r:embed="rId1"/>
          <a:stretch/>
        </p:blipFill>
        <p:spPr>
          <a:xfrm>
            <a:off x="104472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4266720" y="2765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6560" y="2616120"/>
            <a:ext cx="16588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ew of a filtered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05600" y="25369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24240" y="2463840"/>
            <a:ext cx="1950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nd Options but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95360" y="3848040"/>
            <a:ext cx="10220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 Fil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7280" y="3076560"/>
            <a:ext cx="0" cy="76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Advanced Find Op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3" descr="C:\Documents and Settings\student\Desktop\l3\8.png"/>
          <p:cNvPicPr/>
          <p:nvPr/>
        </p:nvPicPr>
        <p:blipFill>
          <a:blip r:embed="rId1"/>
          <a:stretch/>
        </p:blipFill>
        <p:spPr>
          <a:xfrm>
            <a:off x="1949400" y="2649600"/>
            <a:ext cx="5086440" cy="21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5400000">
            <a:off x="3579480" y="2293560"/>
            <a:ext cx="174600" cy="2955960"/>
          </a:xfrm>
          <a:custGeom>
            <a:avLst/>
            <a:gdLst>
              <a:gd name="textAreaLeft" fmla="*/ 0 w 174600"/>
              <a:gd name="textAreaRight" fmla="*/ 63000 w 174600"/>
              <a:gd name="textAreaTop" fmla="*/ 77040 h 2955960"/>
              <a:gd name="textAreaBottom" fmla="*/ 2878920 h 29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64080" y="3860640"/>
            <a:ext cx="0" cy="479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56960" y="4330800"/>
            <a:ext cx="1605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sel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5600" y="4000680"/>
            <a:ext cx="16329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rrow filter 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6120" y="3532320"/>
            <a:ext cx="187200" cy="1215720"/>
          </a:xfrm>
          <a:custGeom>
            <a:avLst/>
            <a:gdLst>
              <a:gd name="textAreaLeft" fmla="*/ 0 w 187200"/>
              <a:gd name="textAreaRight" fmla="*/ 67680 w 187200"/>
              <a:gd name="textAreaTop" fmla="*/ 31680 h 1215720"/>
              <a:gd name="textAreaBottom" fmla="*/ 11840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lor-Coded Categori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Picture 2" descr="C:\Documents and Settings\student\Desktop\l3\9.png"/>
          <p:cNvPicPr/>
          <p:nvPr/>
        </p:nvPicPr>
        <p:blipFill>
          <a:blip r:embed="rId1"/>
          <a:stretch/>
        </p:blipFill>
        <p:spPr>
          <a:xfrm>
            <a:off x="3002040" y="2222640"/>
            <a:ext cx="31338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27:40Z</dcterms:modified>
  <cp:revision>131</cp:revision>
  <dc:subject/>
  <dc:title>Callouts and Arrows</dc:title>
</cp:coreProperties>
</file>