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356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8211960" cy="25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6840" y="3840480"/>
            <a:ext cx="8211960" cy="25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356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4007160" cy="25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4880" y="1060200"/>
            <a:ext cx="4007160" cy="25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6840" y="3840480"/>
            <a:ext cx="4007160" cy="25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64880" y="3840480"/>
            <a:ext cx="4007160" cy="25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356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2643840" cy="25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3160" y="1060200"/>
            <a:ext cx="2643840" cy="25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09840" y="1060200"/>
            <a:ext cx="2643840" cy="25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6840" y="3840480"/>
            <a:ext cx="2643840" cy="25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3160" y="3840480"/>
            <a:ext cx="2643840" cy="25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09840" y="3840480"/>
            <a:ext cx="2643840" cy="25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356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6840" y="1060200"/>
            <a:ext cx="8211960" cy="53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356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821196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356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400716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880" y="1060200"/>
            <a:ext cx="400716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356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683568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356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4007160" cy="25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4880" y="1060200"/>
            <a:ext cx="400716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840480"/>
            <a:ext cx="4007160" cy="25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356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400716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4880" y="1060200"/>
            <a:ext cx="4007160" cy="25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64880" y="3840480"/>
            <a:ext cx="4007160" cy="25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356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4007160" cy="25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4880" y="1060200"/>
            <a:ext cx="4007160" cy="25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6840" y="3840480"/>
            <a:ext cx="8211960" cy="25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178840" y="6551640"/>
            <a:ext cx="9651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356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060200"/>
            <a:ext cx="821196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22400" y="6551640"/>
            <a:ext cx="3687120" cy="231120"/>
            <a:chOff x="122400" y="6551640"/>
            <a:chExt cx="3687120" cy="231120"/>
          </a:xfrm>
        </p:grpSpPr>
        <p:sp>
          <p:nvSpPr>
            <p:cNvPr id="5" name=""/>
            <p:cNvSpPr/>
            <p:nvPr/>
          </p:nvSpPr>
          <p:spPr>
            <a:xfrm>
              <a:off x="179280" y="6551640"/>
              <a:ext cx="3630240" cy="228600"/>
            </a:xfrm>
            <a:prstGeom prst="roundRect">
              <a:avLst>
                <a:gd name="adj" fmla="val 6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122400" y="6551640"/>
              <a:ext cx="3675960" cy="231120"/>
              <a:chOff x="122400" y="6551640"/>
              <a:chExt cx="3675960" cy="231120"/>
            </a:xfrm>
          </p:grpSpPr>
          <p:sp>
            <p:nvSpPr>
              <p:cNvPr id="7" name=""/>
              <p:cNvSpPr/>
              <p:nvPr/>
            </p:nvSpPr>
            <p:spPr>
              <a:xfrm>
                <a:off x="179280" y="6551640"/>
                <a:ext cx="3619080" cy="217440"/>
              </a:xfrm>
              <a:prstGeom prst="roundRect">
                <a:avLst>
                  <a:gd name="adj" fmla="val 7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22400" y="6551640"/>
                <a:ext cx="3668040" cy="231120"/>
                <a:chOff x="122400" y="6551640"/>
                <a:chExt cx="3668040" cy="23112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179280" y="6551640"/>
                  <a:ext cx="3611160" cy="208080"/>
                </a:xfrm>
                <a:prstGeom prst="roundRect">
                  <a:avLst>
                    <a:gd name="adj" fmla="val 76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122400" y="6551640"/>
                  <a:ext cx="3660120" cy="231120"/>
                  <a:chOff x="122400" y="6551640"/>
                  <a:chExt cx="3660120" cy="23112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179280" y="6551640"/>
                    <a:ext cx="3603240" cy="200160"/>
                  </a:xfrm>
                  <a:prstGeom prst="roundRect">
                    <a:avLst>
                      <a:gd name="adj" fmla="val 792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" name=""/>
                  <p:cNvGrpSpPr/>
                  <p:nvPr/>
                </p:nvGrpSpPr>
                <p:grpSpPr>
                  <a:xfrm>
                    <a:off x="122400" y="6551640"/>
                    <a:ext cx="3653640" cy="231120"/>
                    <a:chOff x="122400" y="6551640"/>
                    <a:chExt cx="3653640" cy="231120"/>
                  </a:xfrm>
                </p:grpSpPr>
                <p:sp>
                  <p:nvSpPr>
                    <p:cNvPr id="13" name=""/>
                    <p:cNvSpPr/>
                    <p:nvPr/>
                  </p:nvSpPr>
                  <p:spPr>
                    <a:xfrm>
                      <a:off x="179280" y="6551640"/>
                      <a:ext cx="3596760" cy="195120"/>
                    </a:xfrm>
                    <a:prstGeom prst="roundRect">
                      <a:avLst>
                        <a:gd name="adj" fmla="val 81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" name=""/>
                    <p:cNvGrpSpPr/>
                    <p:nvPr/>
                  </p:nvGrpSpPr>
                  <p:grpSpPr>
                    <a:xfrm>
                      <a:off x="122400" y="6551640"/>
                      <a:ext cx="3648960" cy="231120"/>
                      <a:chOff x="122400" y="6551640"/>
                      <a:chExt cx="3648960" cy="231120"/>
                    </a:xfrm>
                  </p:grpSpPr>
                  <p:sp>
                    <p:nvSpPr>
                      <p:cNvPr id="15" name=""/>
                      <p:cNvSpPr/>
                      <p:nvPr/>
                    </p:nvSpPr>
                    <p:spPr>
                      <a:xfrm>
                        <a:off x="179280" y="6551640"/>
                        <a:ext cx="3592080" cy="192240"/>
                      </a:xfrm>
                      <a:prstGeom prst="roundRect">
                        <a:avLst>
                          <a:gd name="adj" fmla="val 83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6" name=""/>
                      <p:cNvGrpSpPr/>
                      <p:nvPr/>
                    </p:nvGrpSpPr>
                    <p:grpSpPr>
                      <a:xfrm>
                        <a:off x="122400" y="6551640"/>
                        <a:ext cx="3645720" cy="231120"/>
                        <a:chOff x="122400" y="6551640"/>
                        <a:chExt cx="3645720" cy="231120"/>
                      </a:xfrm>
                    </p:grpSpPr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>
                          <a:off x="179280" y="6551640"/>
                          <a:ext cx="3588840" cy="189000"/>
                        </a:xfrm>
                        <a:prstGeom prst="roundRect">
                          <a:avLst>
                            <a:gd name="adj" fmla="val 847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8" name=""/>
                        <p:cNvGrpSpPr/>
                        <p:nvPr/>
                      </p:nvGrpSpPr>
                      <p:grpSpPr>
                        <a:xfrm>
                          <a:off x="122400" y="6551640"/>
                          <a:ext cx="3644280" cy="231120"/>
                          <a:chOff x="122400" y="6551640"/>
                          <a:chExt cx="3644280" cy="231120"/>
                        </a:xfrm>
                      </p:grpSpPr>
                      <p:sp>
                        <p:nvSpPr>
                          <p:cNvPr id="19" name=""/>
                          <p:cNvSpPr/>
                          <p:nvPr/>
                        </p:nvSpPr>
                        <p:spPr>
                          <a:xfrm>
                            <a:off x="179280" y="6551640"/>
                            <a:ext cx="3587400" cy="187200"/>
                          </a:xfrm>
                          <a:prstGeom prst="roundRect">
                            <a:avLst>
                              <a:gd name="adj" fmla="val 847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0" name=""/>
                          <p:cNvGrpSpPr/>
                          <p:nvPr/>
                        </p:nvGrpSpPr>
                        <p:grpSpPr>
                          <a:xfrm>
                            <a:off x="122400" y="6551640"/>
                            <a:ext cx="3644280" cy="231120"/>
                            <a:chOff x="122400" y="6551640"/>
                            <a:chExt cx="3644280" cy="231120"/>
                          </a:xfrm>
                        </p:grpSpPr>
                        <p:sp>
                          <p:nvSpPr>
                            <p:cNvPr id="21" name=""/>
                            <p:cNvSpPr/>
                            <p:nvPr/>
                          </p:nvSpPr>
                          <p:spPr>
                            <a:xfrm>
                              <a:off x="179280" y="6551640"/>
                              <a:ext cx="3587400" cy="185760"/>
                            </a:xfrm>
                            <a:prstGeom prst="roundRect">
                              <a:avLst>
                                <a:gd name="adj" fmla="val 861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" name=""/>
                            <p:cNvSpPr/>
                            <p:nvPr/>
                          </p:nvSpPr>
                          <p:spPr>
                            <a:xfrm>
                              <a:off x="122400" y="6551640"/>
                              <a:ext cx="3643200" cy="231120"/>
                            </a:xfrm>
                            <a:prstGeom prst="roundRect">
                              <a:avLst>
                                <a:gd name="adj" fmla="val 861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360" rIns="90360" tIns="44280" bIns="44280" anchor="t">
                              <a:spAutoFit/>
                            </a:bodyPr>
                            <a:p>
                              <a:pPr algn="r">
                                <a:lnSpc>
                                  <a:spcPct val="93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000" spc="-1" strike="noStrike">
                                  <a:solidFill>
                                    <a:srgbClr val="c4c4c4"/>
                                  </a:solidFill>
                                  <a:latin typeface="Arial"/>
                                </a:rPr>
                                <a:t>Copyright © 2009 Element K Content LLC. All rights reserved.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03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ourse Outlin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45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ting Started with GroupW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with Mess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Mess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with Address Boo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he Calend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Resources and Multi-User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neshkumarb</cp:lastModifiedBy>
  <dcterms:modified xsi:type="dcterms:W3CDTF">2009-04-15T10:14:00Z</dcterms:modified>
  <cp:revision>10</cp:revision>
  <dc:subject/>
  <dc:title>Course Outline</dc:title>
</cp:coreProperties>
</file>