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6600"/>
            <a:ext cx="822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64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06056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7760" y="106056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660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84660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7760" y="3846600"/>
            <a:ext cx="2647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01600"/>
            <a:ext cx="6846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640" y="384660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060560"/>
            <a:ext cx="4012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6600"/>
            <a:ext cx="822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178840" y="6551640"/>
            <a:ext cx="9651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Times New Roman"/>
              </a:rPr>
              <a:t>OV 5 - </a:t>
            </a:r>
            <a:fld id="{D587AF59-B1AF-4A30-928F-ECB69FAED10F}" type="slidenum">
              <a:rPr b="0" lang="en-US" sz="800" spc="-1" strike="noStrike">
                <a:solidFill>
                  <a:srgbClr val="c4c4c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4680" y="6551640"/>
            <a:ext cx="3644640" cy="237960"/>
            <a:chOff x="-4680" y="6551640"/>
            <a:chExt cx="3644640" cy="237960"/>
          </a:xfrm>
        </p:grpSpPr>
        <p:sp>
          <p:nvSpPr>
            <p:cNvPr id="3" name="AutoShape 4"/>
            <p:cNvSpPr/>
            <p:nvPr/>
          </p:nvSpPr>
          <p:spPr>
            <a:xfrm>
              <a:off x="0" y="6551640"/>
              <a:ext cx="3639960" cy="237960"/>
            </a:xfrm>
            <a:prstGeom prst="roundRect">
              <a:avLst>
                <a:gd name="adj" fmla="val 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-4680" y="6551640"/>
              <a:ext cx="3643200" cy="236520"/>
              <a:chOff x="-4680" y="6551640"/>
              <a:chExt cx="3643200" cy="236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0" y="6551640"/>
                <a:ext cx="3638520" cy="2365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7"/>
              <p:cNvGrpSpPr/>
              <p:nvPr/>
            </p:nvGrpSpPr>
            <p:grpSpPr>
              <a:xfrm>
                <a:off x="-4680" y="6551640"/>
                <a:ext cx="3643200" cy="236520"/>
                <a:chOff x="-4680" y="6551640"/>
                <a:chExt cx="3643200" cy="236520"/>
              </a:xfrm>
            </p:grpSpPr>
            <p:sp>
              <p:nvSpPr>
                <p:cNvPr id="7" name="AutoShape 8"/>
                <p:cNvSpPr/>
                <p:nvPr/>
              </p:nvSpPr>
              <p:spPr>
                <a:xfrm>
                  <a:off x="0" y="6551640"/>
                  <a:ext cx="3638520" cy="236520"/>
                </a:xfrm>
                <a:prstGeom prst="roundRect">
                  <a:avLst>
                    <a:gd name="adj" fmla="val 67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AutoShape 9"/>
                <p:cNvSpPr/>
                <p:nvPr/>
              </p:nvSpPr>
              <p:spPr>
                <a:xfrm>
                  <a:off x="-4680" y="6551640"/>
                  <a:ext cx="3643200" cy="231120"/>
                </a:xfrm>
                <a:prstGeom prst="roundRect">
                  <a:avLst>
                    <a:gd name="adj" fmla="val 67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4c4c4"/>
                      </a:solidFill>
                      <a:latin typeface="Arial"/>
                    </a:rPr>
                    <a:t>Copyright © 2009 Element K Content LLC. All rights reserved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Using the Calendar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the Calend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Posted Appoint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Appointments for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Ta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Reminder N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ompleted Task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Picture 2" descr="C:\Documents and Settings\student\Desktop\l5\9.png"/>
          <p:cNvPicPr/>
          <p:nvPr/>
        </p:nvPicPr>
        <p:blipFill>
          <a:blip r:embed="rId1"/>
          <a:stretch/>
        </p:blipFill>
        <p:spPr>
          <a:xfrm>
            <a:off x="1387440" y="1536840"/>
            <a:ext cx="7048440" cy="4381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1000" y="4838760"/>
            <a:ext cx="10112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0040" y="4478400"/>
            <a:ext cx="231480" cy="720720"/>
          </a:xfrm>
          <a:custGeom>
            <a:avLst/>
            <a:gdLst>
              <a:gd name="textAreaLeft" fmla="*/ -360 w 231480"/>
              <a:gd name="textAreaRight" fmla="*/ 83160 w 2314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9400" y="4592520"/>
            <a:ext cx="968760" cy="459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509904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Declined Task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57400" y="3002040"/>
            <a:ext cx="3229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ask Delega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" name="Picture 2" descr="C:\Documents and Settings\student\Desktop\l5\12.png"/>
          <p:cNvPicPr/>
          <p:nvPr/>
        </p:nvPicPr>
        <p:blipFill>
          <a:blip r:embed="rId1"/>
          <a:stretch/>
        </p:blipFill>
        <p:spPr>
          <a:xfrm>
            <a:off x="1679400" y="1333440"/>
            <a:ext cx="7048800" cy="4381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97160" y="450216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9000" y="4254480"/>
            <a:ext cx="14425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 for th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ip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89880" y="5816520"/>
            <a:ext cx="14562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iginal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741920" y="5133960"/>
            <a:ext cx="0" cy="68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minder Not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" name="Picture 2" descr="C:\Documents and Settings\student\Desktop\l5\13.png"/>
          <p:cNvPicPr/>
          <p:nvPr/>
        </p:nvPicPr>
        <p:blipFill>
          <a:blip r:embed="rId1"/>
          <a:stretch/>
        </p:blipFill>
        <p:spPr>
          <a:xfrm>
            <a:off x="600120" y="1511280"/>
            <a:ext cx="7048440" cy="4381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33880" y="2959200"/>
            <a:ext cx="10296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ind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detai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04200" y="2700360"/>
            <a:ext cx="199800" cy="1012680"/>
          </a:xfrm>
          <a:custGeom>
            <a:avLst/>
            <a:gdLst>
              <a:gd name="textAreaLeft" fmla="*/ 0 w 199800"/>
              <a:gd name="textAreaRight" fmla="*/ 72000 w 199800"/>
              <a:gd name="textAreaTop" fmla="*/ 26280 h 1012680"/>
              <a:gd name="textAreaBottom" fmla="*/ 98640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do you automatically remind yourself and others of the upcoming events, or some other specific inform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would you organize and manage your tasks that cannot be completed as per the schedu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alendar Print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" name="Picture 2" descr="C:\Documents and Settings\student\Desktop\l5\1.png"/>
          <p:cNvPicPr/>
          <p:nvPr/>
        </p:nvPicPr>
        <p:blipFill>
          <a:blip r:embed="rId1"/>
          <a:stretch/>
        </p:blipFill>
        <p:spPr>
          <a:xfrm>
            <a:off x="2544840" y="2103480"/>
            <a:ext cx="4048200" cy="324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2602800" y="2857680"/>
            <a:ext cx="174600" cy="914400"/>
          </a:xfrm>
          <a:custGeom>
            <a:avLst/>
            <a:gdLst>
              <a:gd name="textAreaLeft" fmla="*/ 0 w 174600"/>
              <a:gd name="textAreaRight" fmla="*/ 63000 w 174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0080" y="3162240"/>
            <a:ext cx="14364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forma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564640" y="4203720"/>
            <a:ext cx="174600" cy="723960"/>
          </a:xfrm>
          <a:custGeom>
            <a:avLst/>
            <a:gdLst>
              <a:gd name="textAreaLeft" fmla="*/ 0 w 174600"/>
              <a:gd name="textAreaRight" fmla="*/ 63000 w 17460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0320" y="4419720"/>
            <a:ext cx="12765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ty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34200" y="2768760"/>
            <a:ext cx="231840" cy="1485720"/>
          </a:xfrm>
          <a:custGeom>
            <a:avLst/>
            <a:gdLst>
              <a:gd name="textAreaLeft" fmla="*/ 0 w 231840"/>
              <a:gd name="textAreaRight" fmla="*/ 83520 w 231840"/>
              <a:gd name="textAreaTop" fmla="*/ 38520 h 1485720"/>
              <a:gd name="textAreaBottom" fmla="*/ 1447200 h 14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01320" y="3365640"/>
            <a:ext cx="9381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r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Posted Appointmen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" name="Picture 2" descr="C:\Documents and Settings\student\Desktop\l5\2.png"/>
          <p:cNvPicPr/>
          <p:nvPr/>
        </p:nvPicPr>
        <p:blipFill>
          <a:blip r:embed="rId1"/>
          <a:stretch/>
        </p:blipFill>
        <p:spPr>
          <a:xfrm>
            <a:off x="861840" y="1889280"/>
            <a:ext cx="5610240" cy="3676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46800" y="2971800"/>
            <a:ext cx="257040" cy="1168560"/>
          </a:xfrm>
          <a:custGeom>
            <a:avLst/>
            <a:gdLst>
              <a:gd name="textAreaLeft" fmla="*/ 0 w 257040"/>
              <a:gd name="textAreaRight" fmla="*/ 92880 w 257040"/>
              <a:gd name="textAreaTop" fmla="*/ 30240 h 1168560"/>
              <a:gd name="textAreaBottom" fmla="*/ 1138320 h 11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3640" y="3314880"/>
            <a:ext cx="16894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ed appointm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curring Posted Appointmen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" name="Picture 2" descr="C:\Documents and Settings\student\Desktop\l5\3.png"/>
          <p:cNvPicPr/>
          <p:nvPr/>
        </p:nvPicPr>
        <p:blipFill>
          <a:blip r:embed="rId1"/>
          <a:stretch/>
        </p:blipFill>
        <p:spPr>
          <a:xfrm>
            <a:off x="1973160" y="1827360"/>
            <a:ext cx="5915160" cy="4410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44480" y="227952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3160" y="1930320"/>
            <a:ext cx="15552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s to specif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s wi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37520" y="1244520"/>
            <a:ext cx="16574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s to specif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s with a form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174312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355920" y="1692360"/>
            <a:ext cx="555840" cy="55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4040" y="1244520"/>
            <a:ext cx="1063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ual 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Appointment Schedul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0" name="Picture 2" descr="C:\Documents and Settings\student\Desktop\l5\4.png"/>
          <p:cNvPicPr/>
          <p:nvPr/>
        </p:nvPicPr>
        <p:blipFill>
          <a:blip r:embed="rId1"/>
          <a:stretch/>
        </p:blipFill>
        <p:spPr>
          <a:xfrm>
            <a:off x="1035000" y="1698480"/>
            <a:ext cx="5619960" cy="405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26160" y="2743200"/>
            <a:ext cx="257400" cy="1460520"/>
          </a:xfrm>
          <a:custGeom>
            <a:avLst/>
            <a:gdLst>
              <a:gd name="textAreaLeft" fmla="*/ 0 w 257400"/>
              <a:gd name="textAreaRight" fmla="*/ 92880 w 257400"/>
              <a:gd name="textAreaTop" fmla="*/ 37800 h 1460520"/>
              <a:gd name="textAreaBottom" fmla="*/ 1422720 h 14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24600" y="3213000"/>
            <a:ext cx="1162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ointm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Busy Search Featur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4" name="Picture 2" descr="C:\Documents and Settings\student\Desktop\l5\5.png"/>
          <p:cNvPicPr/>
          <p:nvPr/>
        </p:nvPicPr>
        <p:blipFill>
          <a:blip r:embed="rId1"/>
          <a:stretch/>
        </p:blipFill>
        <p:spPr>
          <a:xfrm>
            <a:off x="2106720" y="1060560"/>
            <a:ext cx="4924440" cy="533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6156000" y="2406600"/>
            <a:ext cx="1050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23040" y="2070000"/>
            <a:ext cx="100656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ilabilit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u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967760" y="1803240"/>
            <a:ext cx="276120" cy="2476800"/>
          </a:xfrm>
          <a:custGeom>
            <a:avLst/>
            <a:gdLst>
              <a:gd name="textAreaLeft" fmla="*/ 0 w 276120"/>
              <a:gd name="textAreaRight" fmla="*/ 99720 w 276120"/>
              <a:gd name="textAreaTop" fmla="*/ 64440 h 2476800"/>
              <a:gd name="textAreaBottom" fmla="*/ 2412360 h 247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840" y="2806560"/>
            <a:ext cx="1828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ilability tim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de for related us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Overlapping Appointmen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0" name="Picture 2" descr="C:\Documents and Settings\student\Desktop\l5\6.png"/>
          <p:cNvPicPr/>
          <p:nvPr/>
        </p:nvPicPr>
        <p:blipFill>
          <a:blip r:embed="rId1"/>
          <a:stretch/>
        </p:blipFill>
        <p:spPr>
          <a:xfrm>
            <a:off x="1044720" y="1536840"/>
            <a:ext cx="7048440" cy="4381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 rot="16200000">
            <a:off x="5604120" y="4802040"/>
            <a:ext cx="162000" cy="746280"/>
          </a:xfrm>
          <a:custGeom>
            <a:avLst/>
            <a:gdLst>
              <a:gd name="textAreaLeft" fmla="*/ 0 w 162000"/>
              <a:gd name="textAreaRight" fmla="*/ 58320 w 162000"/>
              <a:gd name="textAreaTop" fmla="*/ 19440 h 746280"/>
              <a:gd name="textAreaBottom" fmla="*/ 726840 h 74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99400" y="5278320"/>
            <a:ext cx="1180440" cy="459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verlapping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oint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Appointment Acceptanc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4" name="Picture 2" descr="C:\Documents and Settings\student\Desktop\l5\7.png"/>
          <p:cNvPicPr/>
          <p:nvPr/>
        </p:nvPicPr>
        <p:blipFill>
          <a:blip r:embed="rId1"/>
          <a:stretch/>
        </p:blipFill>
        <p:spPr>
          <a:xfrm>
            <a:off x="3102120" y="3151080"/>
            <a:ext cx="2933640" cy="115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06560" y="410832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4680" y="3860640"/>
            <a:ext cx="19972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to accep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 the current in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42560" y="4444920"/>
            <a:ext cx="14274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to accep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in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64000" y="41655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ask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Picture 2" descr="C:\Documents and Settings\student\Desktop\l5\8.png"/>
          <p:cNvPicPr/>
          <p:nvPr/>
        </p:nvPicPr>
        <p:blipFill>
          <a:blip r:embed="rId1"/>
          <a:stretch/>
        </p:blipFill>
        <p:spPr>
          <a:xfrm>
            <a:off x="638280" y="1460520"/>
            <a:ext cx="7048440" cy="4381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51320" y="4444920"/>
            <a:ext cx="0" cy="144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800" y="5867280"/>
            <a:ext cx="10386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ed t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90040" y="4978440"/>
            <a:ext cx="7934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2360" y="4719600"/>
            <a:ext cx="199800" cy="835200"/>
          </a:xfrm>
          <a:custGeom>
            <a:avLst/>
            <a:gdLst>
              <a:gd name="textAreaLeft" fmla="*/ 0 w 199800"/>
              <a:gd name="textAreaRight" fmla="*/ 72000 w 199800"/>
              <a:gd name="textAreaTop" fmla="*/ 21600 h 835200"/>
              <a:gd name="textAreaBottom" fmla="*/ 81360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tware Manager</cp:lastModifiedBy>
  <dcterms:modified xsi:type="dcterms:W3CDTF">2009-04-15T13:23:48Z</dcterms:modified>
  <cp:revision>56</cp:revision>
  <dc:subject/>
  <dc:title>Callouts and Arrows</dc:title>
</cp:coreProperties>
</file>