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27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178840" y="6551640"/>
            <a:ext cx="96516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Times New Roman"/>
              </a:rPr>
              <a:t>OV 2 - </a:t>
            </a:r>
            <a:fld id="{74CF43DF-CD1F-411F-95D8-70531E4BFCA2}" type="slidenum">
              <a:rPr b="0" lang="en-US" sz="800" spc="-1" strike="noStrike">
                <a:solidFill>
                  <a:srgbClr val="c4c4c4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9360" y="6551640"/>
            <a:ext cx="3647880" cy="236520"/>
            <a:chOff x="-9360" y="6551640"/>
            <a:chExt cx="3647880" cy="236520"/>
          </a:xfrm>
        </p:grpSpPr>
        <p:sp>
          <p:nvSpPr>
            <p:cNvPr id="3" name=""/>
            <p:cNvSpPr/>
            <p:nvPr/>
          </p:nvSpPr>
          <p:spPr>
            <a:xfrm>
              <a:off x="0" y="6551640"/>
              <a:ext cx="3638520" cy="236520"/>
            </a:xfrm>
            <a:prstGeom prst="roundRect">
              <a:avLst>
                <a:gd name="adj" fmla="val 67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9360" y="6551640"/>
              <a:ext cx="3644640" cy="233280"/>
              <a:chOff x="-9360" y="6551640"/>
              <a:chExt cx="3644640" cy="23328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6551640"/>
                <a:ext cx="3635280" cy="233280"/>
              </a:xfrm>
              <a:prstGeom prst="roundRect">
                <a:avLst>
                  <a:gd name="adj" fmla="val 68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-9360" y="6551640"/>
                <a:ext cx="3643200" cy="231840"/>
                <a:chOff x="-9360" y="6551640"/>
                <a:chExt cx="3643200" cy="23184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0" y="6551640"/>
                  <a:ext cx="3633840" cy="231840"/>
                </a:xfrm>
                <a:prstGeom prst="roundRect">
                  <a:avLst>
                    <a:gd name="adj" fmla="val 68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" name=""/>
                <p:cNvGrpSpPr/>
                <p:nvPr/>
              </p:nvGrpSpPr>
              <p:grpSpPr>
                <a:xfrm>
                  <a:off x="-9360" y="6551640"/>
                  <a:ext cx="3643200" cy="231840"/>
                  <a:chOff x="-9360" y="6551640"/>
                  <a:chExt cx="3643200" cy="231840"/>
                </a:xfrm>
              </p:grpSpPr>
              <p:sp>
                <p:nvSpPr>
                  <p:cNvPr id="9" name=""/>
                  <p:cNvSpPr/>
                  <p:nvPr/>
                </p:nvSpPr>
                <p:spPr>
                  <a:xfrm>
                    <a:off x="0" y="6551640"/>
                    <a:ext cx="3633840" cy="231840"/>
                  </a:xfrm>
                  <a:prstGeom prst="roundRect">
                    <a:avLst>
                      <a:gd name="adj" fmla="val 681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" name=""/>
                  <p:cNvSpPr/>
                  <p:nvPr/>
                </p:nvSpPr>
                <p:spPr>
                  <a:xfrm>
                    <a:off x="-9360" y="6551640"/>
                    <a:ext cx="3643200" cy="231120"/>
                  </a:xfrm>
                  <a:prstGeom prst="roundRect">
                    <a:avLst>
                      <a:gd name="adj" fmla="val 681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c4c4c4"/>
                        </a:solidFill>
                        <a:latin typeface="Arial"/>
                      </a:rPr>
                      <a:t>Copyright © 2009 Element K Content LLC. All rights reserved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99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ff99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ff99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Working with Message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Email Mess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Mess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with the Advanced Message Op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Email Proper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with Attach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with Sent I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y to and Forward a Mess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n what circumstances, do you think, you would set high priorities for your messag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Which formatting options, do you think are used often to emphasize or control the appearance of your messag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Reflective Question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 Black"/>
              </a:rPr>
              <a:t>The Notify Program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43624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 Black"/>
              </a:rPr>
              <a:t>New Email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81200" y="2738520"/>
            <a:ext cx="4657680" cy="2266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317680" y="3381480"/>
            <a:ext cx="49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2400" y="3035160"/>
            <a:ext cx="1684800" cy="64152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email indica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y an unopen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889360" y="2511000"/>
            <a:ext cx="0" cy="498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68840" y="2173320"/>
            <a:ext cx="182952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ail  indicated by 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ned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5498640" y="2523960"/>
            <a:ext cx="660600" cy="660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86080" y="2192400"/>
            <a:ext cx="144720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read message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played in b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 Black"/>
              </a:rPr>
              <a:t>The QuickViewer Pan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69920" y="1515960"/>
            <a:ext cx="7047000" cy="4381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161120" y="1916280"/>
            <a:ext cx="433440" cy="433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83720" y="1346040"/>
            <a:ext cx="1956240" cy="6415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QuickViewer togg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utton used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isplay or hide the p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54560" y="2881440"/>
            <a:ext cx="433440" cy="433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36120" y="2743200"/>
            <a:ext cx="1166760" cy="27648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lected 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801800" y="4097160"/>
            <a:ext cx="263520" cy="1508400"/>
          </a:xfrm>
          <a:custGeom>
            <a:avLst/>
            <a:gdLst>
              <a:gd name="textAreaLeft" fmla="*/ 0 w 263520"/>
              <a:gd name="textAreaRight" fmla="*/ 95040 w 263520"/>
              <a:gd name="textAreaTop" fmla="*/ 39240 h 1508400"/>
              <a:gd name="textAreaBottom" fmla="*/ 1469160 h 150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8720" y="4433760"/>
            <a:ext cx="1553760" cy="82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itional pane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play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ents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selected 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 Black"/>
              </a:rPr>
              <a:t>New Message Composition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265480" y="1701720"/>
            <a:ext cx="5618160" cy="4010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847880" y="3279600"/>
            <a:ext cx="612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8000" y="3024360"/>
            <a:ext cx="176112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ipients add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 the To text 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025720" y="5172120"/>
            <a:ext cx="612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4280" y="5018040"/>
            <a:ext cx="133272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tachment 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7455960" y="4335480"/>
            <a:ext cx="638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040240" y="4091040"/>
            <a:ext cx="86940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ss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xt 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7367760" y="3497400"/>
            <a:ext cx="637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043480" y="3252960"/>
            <a:ext cx="77508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bje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xt 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 Black"/>
              </a:rPr>
              <a:t>Phone Message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016000" y="1782720"/>
            <a:ext cx="5618160" cy="40291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 flipH="1">
            <a:off x="1955160" y="3017880"/>
            <a:ext cx="276120" cy="936720"/>
          </a:xfrm>
          <a:custGeom>
            <a:avLst/>
            <a:gdLst>
              <a:gd name="textAreaLeft" fmla="*/ 0 w 276120"/>
              <a:gd name="textAreaRight" fmla="*/ 99720 w 27612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3720" y="3214800"/>
            <a:ext cx="131004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rmation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out the ca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2768760" y="4008600"/>
            <a:ext cx="110880" cy="352440"/>
          </a:xfrm>
          <a:custGeom>
            <a:avLst/>
            <a:gdLst>
              <a:gd name="textAreaLeft" fmla="*/ 360 w 110880"/>
              <a:gd name="textAreaRight" fmla="*/ 40320 w 110880"/>
              <a:gd name="textAreaTop" fmla="*/ 9000 h 352440"/>
              <a:gd name="textAreaBottom" fmla="*/ 34344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40040" y="4181400"/>
            <a:ext cx="841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7120" y="3949560"/>
            <a:ext cx="145476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ssage about a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ne call m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 rot="16200000">
            <a:off x="4292640" y="3208320"/>
            <a:ext cx="225360" cy="3146400"/>
          </a:xfrm>
          <a:custGeom>
            <a:avLst/>
            <a:gdLst>
              <a:gd name="textAreaLeft" fmla="*/ 0 w 225360"/>
              <a:gd name="textAreaRight" fmla="*/ 81360 w 225360"/>
              <a:gd name="textAreaTop" fmla="*/ 81720 h 3146400"/>
              <a:gd name="textAreaBottom" fmla="*/ 3064680 h 314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15760" y="4916520"/>
            <a:ext cx="178848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ssage check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 Black"/>
              </a:rPr>
              <a:t>The Spell Check Featur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978200" y="2301840"/>
            <a:ext cx="5362560" cy="2305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flipV="1">
            <a:off x="5784840" y="2232000"/>
            <a:ext cx="0" cy="650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82160" y="1779480"/>
            <a:ext cx="218484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lace the incorrect word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th the correct w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02200" y="2754360"/>
            <a:ext cx="433440" cy="433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55240" y="2641680"/>
            <a:ext cx="1317600" cy="27648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gnore the 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971800" y="3297240"/>
            <a:ext cx="162000" cy="453960"/>
          </a:xfrm>
          <a:custGeom>
            <a:avLst/>
            <a:gdLst>
              <a:gd name="textAreaLeft" fmla="*/ 0 w 162000"/>
              <a:gd name="textAreaRight" fmla="*/ 58320 w 162000"/>
              <a:gd name="textAreaTop" fmla="*/ 11520 h 453960"/>
              <a:gd name="textAreaBottom" fmla="*/ 44244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2160" y="3367080"/>
            <a:ext cx="157968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st of sugg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86040" y="3521160"/>
            <a:ext cx="1082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79600" y="2924280"/>
            <a:ext cx="1082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7400" y="2770200"/>
            <a:ext cx="150372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 error ident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 Black"/>
              </a:rPr>
              <a:t>Attachment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3257640"/>
            <a:ext cx="1944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Attach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820880" y="1447920"/>
            <a:ext cx="5618160" cy="40100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flipH="1" rot="16200000">
            <a:off x="2597040" y="4167000"/>
            <a:ext cx="212760" cy="1292400"/>
          </a:xfrm>
          <a:custGeom>
            <a:avLst/>
            <a:gdLst>
              <a:gd name="textAreaLeft" fmla="*/ 0 w 212760"/>
              <a:gd name="textAreaRight" fmla="*/ 76680 w 212760"/>
              <a:gd name="textAreaTop" fmla="*/ 33480 h 1292400"/>
              <a:gd name="textAreaBottom" fmla="*/ 1258920 h 129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30440" y="4940280"/>
            <a:ext cx="2120760" cy="4590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ditional document from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ther program atta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 Black"/>
              </a:rPr>
              <a:t>The Reply Option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35120" y="2336760"/>
            <a:ext cx="313380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ftware Manager</cp:lastModifiedBy>
  <dcterms:modified xsi:type="dcterms:W3CDTF">2009-04-15T13:19:48Z</dcterms:modified>
  <cp:revision>62</cp:revision>
  <dc:subject/>
  <dc:title>Slide 1</dc:title>
</cp:coreProperties>
</file>