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dd an image to a form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en the form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Design tab, click Image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Drag to draw the image control at the desired location; the Insert Picture dialog box appears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Navigate to the folder that contains the graphic fi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the graphic file and 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Insert a logo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form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Design tab, click Logo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Locate and select the desired file, and click OK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Resize the image as neede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dd background pictur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In the Property Sheet, click Pictur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Brows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Locate and select the desired file, and click OK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08:45:56Z</dcterms:created>
  <dc:creator>Santhosh</dc:creator>
  <dc:description/>
  <dc:language>en-US</dc:language>
  <cp:lastModifiedBy>Steve</cp:lastModifiedBy>
  <dcterms:modified xsi:type="dcterms:W3CDTF">2013-05-24T10:39:45Z</dcterms:modified>
  <cp:revision>165</cp:revision>
  <dc:subject/>
  <dc:title>Advanced form design</dc:title>
</cp:coreProperties>
</file>