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3076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Display column headings 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pen the table in Design vie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he desired field nam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he Lookup tab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rom the Column Heads list, select Ye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ypes of control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ext box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ombo box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List box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Use a value list combo box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pen the table in Design vie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he field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he Lookup tab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rom the Display Control list, select Combo Box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rom the Row Source Type list, select Value Lis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In the Row Source box, enter the values for the lis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39:56Z</dcterms:created>
  <dc:creator>Santhosh</dc:creator>
  <dc:description/>
  <dc:language>en-US</dc:language>
  <cp:lastModifiedBy>Steve</cp:lastModifiedBy>
  <dcterms:modified xsi:type="dcterms:W3CDTF">2013-05-24T11:09:01Z</dcterms:modified>
  <cp:revision>149</cp:revision>
  <dc:subject/>
  <dc:title>Working with related tables</dc:title>
</cp:coreProperties>
</file>