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1028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A subdatashee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0" name="Picture 1" descr=""/>
          <p:cNvPicPr/>
          <p:nvPr/>
        </p:nvPicPr>
        <p:blipFill>
          <a:blip r:embed="rId1"/>
          <a:stretch/>
        </p:blipFill>
        <p:spPr>
          <a:xfrm>
            <a:off x="1444680" y="1020600"/>
            <a:ext cx="7327800" cy="515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Insert a subdatashee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pen the table in Design view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n the Design tab, click Property Shee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rom the Subdatasheet Name list, select the name of the tabl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ose the Property Sheet and update the table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0:39:56Z</dcterms:created>
  <dc:creator>Santhosh</dc:creator>
  <dc:description/>
  <dc:language>en-US</dc:language>
  <cp:lastModifiedBy>Steve</cp:lastModifiedBy>
  <dcterms:modified xsi:type="dcterms:W3CDTF">2013-05-24T10:07:43Z</dcterms:modified>
  <cp:revision>151</cp:revision>
  <dc:subject/>
  <dc:title>Working with related tables</dc:title>
</cp:coreProperties>
</file>