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multiple-item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In the Navigation Pane, select the table from which the form will be creat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Create tab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In the Forms group, click Multiple Item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rmat the form and save it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split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2716200" y="762120"/>
            <a:ext cx="4784760" cy="578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datasheet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173320" y="938160"/>
            <a:ext cx="5870520" cy="549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form and sub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460520" y="762120"/>
            <a:ext cx="7296120" cy="57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navigation form with tab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408400" y="16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103480" y="1019160"/>
            <a:ext cx="6010200" cy="524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8:45:56Z</dcterms:created>
  <dc:creator>Santhosh</dc:creator>
  <dc:description/>
  <dc:language>en-US</dc:language>
  <cp:lastModifiedBy>Steve</cp:lastModifiedBy>
  <dcterms:modified xsi:type="dcterms:W3CDTF">2013-05-24T10:54:49Z</dcterms:modified>
  <cp:revision>165</cp:revision>
  <dc:subject/>
  <dc:title>Advanced form design</dc:title>
</cp:coreProperties>
</file>