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96720" y="-360"/>
            <a:ext cx="7623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597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597a7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597a7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597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2" name="Picture 1028" descr="ILT PPT sidebar 2008b"/>
          <p:cNvPicPr/>
          <p:nvPr/>
        </p:nvPicPr>
        <p:blipFill>
          <a:blip r:embed="rId2"/>
          <a:stretch/>
        </p:blipFill>
        <p:spPr>
          <a:xfrm>
            <a:off x="0" y="0"/>
            <a:ext cx="109224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Report header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Appears on only the first page in a report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ontains information such as a logo, image, or report title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Use Application Parts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1295280" y="990720"/>
            <a:ext cx="7620120" cy="56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Click File, N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Double-click Blank desktop data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On the Create tab, click Application p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Under Quick Start, click Conta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Click Y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Add a report header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Open the report in Design view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Right-click a divider or blank area of the form and choose Report Header/Footer 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Expand the Report Header section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Add the desired controls 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Update and close the report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Report footer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Appears on only the last page of a report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ontains details such as report totals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New Formatting Rule dialog box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46" name="Picture 1" descr=""/>
          <p:cNvPicPr/>
          <p:nvPr/>
        </p:nvPicPr>
        <p:blipFill>
          <a:blip r:embed="rId1"/>
          <a:stretch/>
        </p:blipFill>
        <p:spPr>
          <a:xfrm>
            <a:off x="2127240" y="1900080"/>
            <a:ext cx="59626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Set the Keep Together property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Open the report in Design view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Display the section’s Property Sheet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From the Keep Together list, select Yes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Close the Property Sheet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The Group, Sort, and Total pane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1297080" y="2340000"/>
            <a:ext cx="7599240" cy="1009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Force a new page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To print each set of related data on a separate page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Use the Force New Page property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Create page columns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1295280" y="990720"/>
            <a:ext cx="7620120" cy="56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Open the report in Design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Click Colum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Enter the number of colum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Enter the column wid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Select a column lay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Click 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Set background images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1295280" y="990720"/>
            <a:ext cx="7620120" cy="56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Open the report in Design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Click Background Im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Select an image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Click 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Adjust as nee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2T14:54:41Z</dcterms:created>
  <dc:creator>Santhosh</dc:creator>
  <dc:description/>
  <dc:language>en-US</dc:language>
  <cp:lastModifiedBy>Steve</cp:lastModifiedBy>
  <dcterms:modified xsi:type="dcterms:W3CDTF">2013-06-03T10:44:07Z</dcterms:modified>
  <cp:revision>128</cp:revision>
  <dc:subject/>
  <dc:title>Advanced reports</dc:title>
</cp:coreProperties>
</file>