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Lookup fiel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ontains values from a field in the same or a different table, or from a user-defined lis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The list that a lookup field displays is called a lookup colum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lookup fiel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elete the relationship between the tabl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table in Design vi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in the Data Type column of the desired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the arrow and select Lookup Wizar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irst option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and click N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Under View, select the desired op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904080" y="614376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7967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lookup field, continue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n object and click N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desired field, click Add, and click N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Select the sort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xtend the column widt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nter a label for the lookup field and click Finis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Y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597a7b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t relationships between related fiel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Multi-valued fiel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tore more than one value in a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mpatible with Microsoft Windows SharePoint Services 3.0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ot compatible with Microsoft SQL Serve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multi-valued lookup colum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695760" y="2714760"/>
            <a:ext cx="2628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39:56Z</dcterms:created>
  <dc:creator>Santhosh</dc:creator>
  <dc:description/>
  <dc:language>en-US</dc:language>
  <cp:lastModifiedBy>Steve</cp:lastModifiedBy>
  <dcterms:modified xsi:type="dcterms:W3CDTF">2013-05-24T10:05:33Z</dcterms:modified>
  <cp:revision>152</cp:revision>
  <dc:subject/>
  <dc:title>Working with related tables</dc:title>
</cp:coreProperties>
</file>