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597a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597a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597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2" name="Picture 4100" descr="ILT PPT sidebar 2008b"/>
          <p:cNvPicPr/>
          <p:nvPr/>
        </p:nvPicPr>
        <p:blipFill>
          <a:blip r:embed="rId2"/>
          <a:stretch/>
        </p:blipFill>
        <p:spPr>
          <a:xfrm>
            <a:off x="0" y="0"/>
            <a:ext cx="109224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  <a:ea typeface="Times New Roman"/>
              </a:rPr>
              <a:t>Normalization</a:t>
            </a: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Normalized</a:t>
            </a:r>
            <a:r>
              <a:rPr b="1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tables are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Low maintenance, because they don’t have duplicate data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Flexible, enabling easier queries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Adaptable, absorbing business changes without requiring extensive design modification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Steps to normalize: Rule 1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Take small bites and no repeating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Will you need to sort, group by, or print a subset of the information in the field?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597a7b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  <a:ea typeface="Times New Roman"/>
              </a:rPr>
              <a:t>If so, break it up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Do you see the same kind of information in more than one field? Will you need to add more fields in the future?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597a7b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  <a:ea typeface="Times New Roman"/>
              </a:rPr>
              <a:t>If so, move this information to another table in one tall field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Steps to normalize: Rule 2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100620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7967"/>
                </a:solidFill>
                <a:latin typeface="Arial"/>
                <a:ea typeface="Times New Roman"/>
              </a:rPr>
              <a:t>Stay on topic:</a:t>
            </a:r>
            <a:br>
              <a:rPr sz="2800"/>
            </a:br>
            <a:r>
              <a:rPr b="0" lang="en-US" sz="2800" spc="-1" strike="noStrike">
                <a:solidFill>
                  <a:srgbClr val="8a7967"/>
                </a:solidFill>
                <a:latin typeface="Arial"/>
                <a:ea typeface="Times New Roman"/>
              </a:rPr>
              <a:t>Each non-key field must relate to the entire multiple-field primary key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104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  <a:ea typeface="Times New Roman"/>
              </a:rPr>
              <a:t>Does data in the multiple-field primary key indicate the value of the non-key field?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lvl="1" marL="974880" indent="-287640">
              <a:spcBef>
                <a:spcPts val="601"/>
              </a:spcBef>
              <a:buClr>
                <a:srgbClr val="597a7b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7967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8a7967"/>
                </a:solidFill>
                <a:latin typeface="Arial"/>
                <a:ea typeface="Times New Roman"/>
              </a:rPr>
              <a:t>If so, move non-key field to another table </a:t>
            </a:r>
            <a:endParaRPr b="0" lang="en-US" sz="24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104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  <a:ea typeface="Times New Roman"/>
              </a:rPr>
              <a:t>Does the value in the non-key field correspond directly to the values in the multiple-field primary key? 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lvl="1" marL="974880" indent="-287640">
              <a:spcBef>
                <a:spcPts val="601"/>
              </a:spcBef>
              <a:buClr>
                <a:srgbClr val="597a7b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7967"/>
                </a:solidFill>
                <a:latin typeface="Arial"/>
                <a:ea typeface="Times New Roman"/>
              </a:rPr>
              <a:t>If not, move non-key field to another table</a:t>
            </a:r>
            <a:endParaRPr b="0" lang="en-US" sz="24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Steps to normalize: Rule 3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990720"/>
            <a:ext cx="7620120" cy="55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7967"/>
                </a:solidFill>
                <a:latin typeface="Arial"/>
                <a:ea typeface="Times New Roman"/>
              </a:rPr>
              <a:t>Stay on topic:</a:t>
            </a:r>
            <a:br>
              <a:rPr sz="2800"/>
            </a:br>
            <a:r>
              <a:rPr b="0" lang="en-US" sz="2800" spc="-1" strike="noStrike">
                <a:solidFill>
                  <a:srgbClr val="8a7967"/>
                </a:solidFill>
                <a:latin typeface="Arial"/>
                <a:ea typeface="Times New Roman"/>
              </a:rPr>
              <a:t>Each non-key field must relate to the entire single-field primary key 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104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  <a:ea typeface="Times New Roman"/>
              </a:rPr>
              <a:t>Does data in this non-key field reflect a fact about the primary key? 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lvl="1" marL="746280">
              <a:spcBef>
                <a:spcPts val="601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7967"/>
                </a:solidFill>
                <a:latin typeface="Arial"/>
                <a:ea typeface="Times New Roman"/>
              </a:rPr>
              <a:t>If not, move non-key field to another table</a:t>
            </a:r>
            <a:r>
              <a:rPr b="0" lang="en-US" sz="2400" spc="-1" strike="noStrike">
                <a:solidFill>
                  <a:srgbClr val="8a796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104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  <a:ea typeface="Times New Roman"/>
              </a:rPr>
              <a:t>Could we have more than one non-key field for a single primary key? 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lvl="1" marL="746280">
              <a:spcBef>
                <a:spcPts val="601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7967"/>
                </a:solidFill>
                <a:latin typeface="Arial"/>
                <a:ea typeface="Times New Roman"/>
              </a:rPr>
              <a:t>If so, move non-key field to another table</a:t>
            </a:r>
            <a:r>
              <a:rPr b="0" lang="en-US" sz="2400" spc="-1" strike="noStrike">
                <a:solidFill>
                  <a:srgbClr val="8a796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9:25:56Z</dcterms:created>
  <dc:creator>Santhosh</dc:creator>
  <dc:description/>
  <dc:language>en-US</dc:language>
  <cp:lastModifiedBy>Steve</cp:lastModifiedBy>
  <dcterms:modified xsi:type="dcterms:W3CDTF">2013-05-24T11:08:30Z</dcterms:modified>
  <cp:revision>111</cp:revision>
  <dc:subject/>
  <dc:title>Creating relational databases</dc:title>
</cp:coreProperties>
</file>