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1028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Print a database objec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object in the Navigation pan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File tab, click Print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printer and other print options, and click OK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Use the Database Documente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Database Tools tab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In the Analyze group, click Database Documenter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objects you want to include in the re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Print Preview tab, click Print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printer options and click OK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4:54:41Z</dcterms:created>
  <dc:creator>Santhosh</dc:creator>
  <dc:description/>
  <dc:language>en-US</dc:language>
  <cp:lastModifiedBy>Steve</cp:lastModifiedBy>
  <dcterms:modified xsi:type="dcterms:W3CDTF">2013-05-24T11:10:32Z</dcterms:modified>
  <cp:revision>126</cp:revision>
  <dc:subject/>
  <dc:title>Advanced reports</dc:title>
</cp:coreProperties>
</file>