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1028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DateDiff function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3160" y="990360"/>
            <a:ext cx="7481880" cy="56084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lvl="1" marL="917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a7967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7967"/>
                </a:solidFill>
                <a:latin typeface="Courier New"/>
                <a:ea typeface="Times New Roman"/>
              </a:rPr>
              <a:t>DateDiff("interval",[date1],</a:t>
            </a:r>
            <a:br>
              <a:rPr sz="3200"/>
            </a:br>
            <a:r>
              <a:rPr b="1" lang="en-US" sz="3200" spc="-1" strike="noStrike">
                <a:solidFill>
                  <a:srgbClr val="8a7967"/>
                </a:solidFill>
                <a:latin typeface="Courier New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8a7967"/>
                </a:solidFill>
                <a:latin typeface="Courier New"/>
                <a:ea typeface="Times New Roman"/>
              </a:rPr>
              <a:t>[date2])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Use the DateDiff function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Open the report in Design 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In the desired section, add a text box contro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Open the Property Shee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In the Control Source box on the Data tab, enter the DateDiff function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lose the Property Shee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IIf function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22280" y="990360"/>
            <a:ext cx="7593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7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7967"/>
                </a:solidFill>
                <a:latin typeface="Courier New"/>
              </a:rPr>
              <a:t>IIf(condition,value_if_true,</a:t>
            </a:r>
            <a:br>
              <a:rPr sz="3200"/>
            </a:br>
            <a:r>
              <a:rPr b="1" lang="en-US" sz="3200" spc="-1" strike="noStrike">
                <a:solidFill>
                  <a:srgbClr val="8a7967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8a7967"/>
                </a:solidFill>
                <a:latin typeface="Courier New"/>
              </a:rPr>
              <a:t>value_if_false)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Insert a subrepor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Open the report in Design 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Expand the Detail section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lick Subform/Subrepor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Drag to define the area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Select the sourc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Select fields to link the main report and subrepor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Select a name for the subrepor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lick Finish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14:54:41Z</dcterms:created>
  <dc:creator>Santhosh</dc:creator>
  <dc:description/>
  <dc:language>en-US</dc:language>
  <cp:lastModifiedBy>Steve</cp:lastModifiedBy>
  <dcterms:modified xsi:type="dcterms:W3CDTF">2013-05-24T11:03:36Z</dcterms:modified>
  <cp:revision>127</cp:revision>
  <dc:subject/>
  <dc:title>Advanced reports</dc:title>
</cp:coreProperties>
</file>