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1028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harts in report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an be based on </a:t>
            </a: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the various groups in the repor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an be created in any section of a repor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Format a chart item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In Design view, double-click the char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Double-click the desired chart item to open the Format &lt;Item&gt; dialog box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Make the desired change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Chart Type dialog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860560" y="1366920"/>
            <a:ext cx="44960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12:20Z</dcterms:created>
  <dc:creator>Santhosh</dc:creator>
  <dc:description/>
  <dc:language>en-US</dc:language>
  <cp:lastModifiedBy>Steve</cp:lastModifiedBy>
  <dcterms:modified xsi:type="dcterms:W3CDTF">2013-05-24T11:07:32Z</dcterms:modified>
  <cp:revision>72</cp:revision>
  <dc:subject/>
  <dc:title>PowerPoint Presentation</dc:title>
</cp:coreProperties>
</file>