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the Label Wizar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a table or other database objec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the Create tab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In the Reports group, click Label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a manufacturer and a label page; click Nex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a font and color for the label text; click Nex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Add fields to the label; click Nex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a field by which to sort the labels; click Nex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Enter a report name and click Finish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Labels in Print Previe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865760" y="572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297080" y="1569960"/>
            <a:ext cx="7494480" cy="35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4:54:41Z</dcterms:created>
  <dc:creator>Santhosh</dc:creator>
  <dc:description/>
  <dc:language>en-US</dc:language>
  <cp:lastModifiedBy>Steve</cp:lastModifiedBy>
  <dcterms:modified xsi:type="dcterms:W3CDTF">2013-05-24T11:05:06Z</dcterms:modified>
  <cp:revision>127</cp:revision>
  <dc:subject/>
  <dc:title>Advanced reports</dc:title>
</cp:coreProperties>
</file>