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2052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yntax for calculated field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7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7967"/>
                </a:solidFill>
                <a:latin typeface="Courier New"/>
                <a:ea typeface="Times New Roman"/>
              </a:rPr>
              <a:t>Name_of_calculated_field: </a:t>
            </a:r>
            <a:br>
              <a:rPr sz="3200"/>
            </a:br>
            <a:r>
              <a:rPr b="1" lang="en-US" sz="3200" spc="-1" strike="noStrike">
                <a:solidFill>
                  <a:srgbClr val="8a7967"/>
                </a:solidFill>
                <a:latin typeface="Courier New"/>
                <a:ea typeface="Times New Roman"/>
              </a:rPr>
              <a:t>&lt;Expression for calculation&gt;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calculated fiel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reate a query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Add the desired tables and field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In the Field row, click the proper cel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Enter the expression for the calculated fiel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Zoom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460600" y="2031840"/>
            <a:ext cx="5295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Modify format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query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within the fiel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Property Sheet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From the Format list, select the desired op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From the Decimal Places list, select the desired option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ose the Property Sheet and update the query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Expression Builde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179800" y="1236600"/>
            <a:ext cx="58575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pecify criteria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query in Design view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inside the proper cell in the Criteria row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n the Design tab, click Builder to open the Expression Builder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reate the desired criteria and 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8:48:13Z</dcterms:created>
  <dc:creator>Santhosh</dc:creator>
  <dc:description/>
  <dc:language>en-US</dc:language>
  <cp:lastModifiedBy>Steve</cp:lastModifiedBy>
  <dcterms:modified xsi:type="dcterms:W3CDTF">2013-05-24T10:11:44Z</dcterms:modified>
  <cp:revision>132</cp:revision>
  <dc:subject/>
  <dc:title>Complex queries</dc:title>
</cp:coreProperties>
</file>