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1028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Unbound control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Display information that is not linked to any field in a table or query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Used to add graphics, labels, and other objects to a form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Draw a rectangle on a form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pen the form in Design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n the Design tab, click the Rectangle contro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Drag to draw a rectangle on the form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hange the tab order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pen the form in Design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n the Arrange tab, click Tab Order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Under Section, select the desired option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Under Custom Order, select the field you want to chang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Drag the field up or down, and click OK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uto-order the form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pen the form in Design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n the Design tab, click Tab Order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ick Auto Order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ick OK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reate a grouped control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the controls on the form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he Group button on the Arrange tab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o modify the group properties, right-click the grouped control and use the shortcut menu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Format the page layou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pen the form in Design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Arrange control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hoose File, Print Pre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Use Page Layout controls to format the pag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ave the form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08:45:56Z</dcterms:created>
  <dc:creator>Santhosh</dc:creator>
  <dc:description/>
  <dc:language>en-US</dc:language>
  <cp:lastModifiedBy>Steve</cp:lastModifiedBy>
  <dcterms:modified xsi:type="dcterms:W3CDTF">2013-05-24T10:30:16Z</dcterms:modified>
  <cp:revision>165</cp:revision>
  <dc:subject/>
  <dc:title>Advanced form design</dc:title>
</cp:coreProperties>
</file>