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2052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Bind controls to calculated field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Text Box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raw the control on the form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control, click Property Sheet, and click the Data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From the Control Source list, select the calculated field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ose the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calculated contro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Text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Place the control on the form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control’s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In the Control Source box, enter the expression need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ose the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lign controls on a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form in Design or Layout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desired control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Arrange tab, in the Sizing &amp; Ordering group, click the desired alignment option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8:45:56Z</dcterms:created>
  <dc:creator>Santhosh</dc:creator>
  <dc:description/>
  <dc:language>en-US</dc:language>
  <cp:lastModifiedBy>Steve</cp:lastModifiedBy>
  <dcterms:modified xsi:type="dcterms:W3CDTF">2013-05-24T11:09:55Z</dcterms:modified>
  <cp:revision>163</cp:revision>
  <dc:subject/>
  <dc:title>Advanced form design</dc:title>
</cp:coreProperties>
</file>