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Picture 4" descr="ILT PPT sidebar 2008b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Add a combo box to a form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99072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Open the form in Design view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On the Design tab, click Combo Box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Draw the control on the form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o use the combo box to extract data from tables or queries, select the first option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lect the desired database objec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6906600" y="6037200"/>
            <a:ext cx="187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7967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Add a combo box, continued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Add the field whose values will be listed in the combo box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lect a sort order for the list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Adjust the column width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Select “Store that value in this field” and select a field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Enter a label name for the combo box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Modify combo box propertie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lect the combo box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Open its Property Sheet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Modify properties as needed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ose the Property Shee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1T08:45:56Z</dcterms:created>
  <dc:creator>Santhosh</dc:creator>
  <dc:description/>
  <dc:language>en-US</dc:language>
  <cp:lastModifiedBy>Steve</cp:lastModifiedBy>
  <dcterms:modified xsi:type="dcterms:W3CDTF">2013-05-24T11:10:08Z</dcterms:modified>
  <cp:revision>166</cp:revision>
  <dc:subject/>
  <dc:title>Advanced form design</dc:title>
</cp:coreProperties>
</file>