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3076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Establish relationship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the Relationships butto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how Tabl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the desired table and click Add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Clos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In the Relationships window, drag the desired field from the first table to the desired field in the second tabl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Join Typ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the desired properties optio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heck Enforce Referential Integrity and click Create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394000" y="2306520"/>
            <a:ext cx="5429160" cy="27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Relationships wind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One-to-many relationship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Two tables have a one-to-many relationship when one record in the primary table relates to several records in the related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Junction tabl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Used to create a many-to-many relationship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ct as a link between two tabl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tain primary-key fields of both tables to be rela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any-to-many with juncti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889280" y="2217600"/>
            <a:ext cx="6438600" cy="229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9:25:56Z</dcterms:created>
  <dc:creator>Santhosh</dc:creator>
  <dc:description/>
  <dc:language>en-US</dc:language>
  <cp:lastModifiedBy>Steve</cp:lastModifiedBy>
  <dcterms:modified xsi:type="dcterms:W3CDTF">2013-05-24T10:02:01Z</dcterms:modified>
  <cp:revision>112</cp:revision>
  <dc:subject/>
  <dc:title>Creating relational databases</dc:title>
</cp:coreProperties>
</file>