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2052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Joi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pecify how data between tables is rela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ypes of join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Outer joi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Inner joi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f-joi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Query Wizard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reates a query that can contain fields from one or more table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start the Simple Query Wizar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1203480" indent="-45720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Query Wizard on the Create tab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1203480" indent="-45720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Simple Query Wizard in the New Query dialog box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query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62012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tart the Simple Query Wizard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table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desired fiel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any other fields from other tabl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n option to display detailed results or a summar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nter a tit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n option to either open or modify the query; then click Finis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joins in Design vie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Query Design to open a new query and the Show Table dialog box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the desired table and click Add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Add any additional tables, and close the Show Tables dialog box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From the list in the Table row, select the table from which you want to include field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From the list in the Field row, select the field to be included in the query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Add the necessary field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outer joi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tart a new query in Design view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table from which you want to display all recor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table that contains the related records; add the fiel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ouble-click the join lin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option to display all records from one table and only matching records from another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Joins with an intermediate tabl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reate a query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d the unrelated tables and the intermediate table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ange the join properties between tables as need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self-join query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reate a query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dd the table twic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reate a relationship between the two copies of the tabl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dd the fiel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ind unmatched recor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New Query dialog box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Find Unmatched Query Wizard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a View optio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database object from which to retrieve data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Under View, select the desired option and select the database object you want to match the data to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matching fields from the table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Add fields to be included in the result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Name the query and click Finish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ind duplicate recor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Create tab, click Query Wizard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Find Duplicates Query Wizard, and 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table or query you want to search; click N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one or more fields to search for duplicate information; click N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ny other fields you want to show in the query; click N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ame the query and click Finis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8:48:13Z</dcterms:created>
  <dc:creator>Santhosh</dc:creator>
  <dc:description/>
  <dc:language>en-US</dc:language>
  <cp:lastModifiedBy>Steve</cp:lastModifiedBy>
  <dcterms:modified xsi:type="dcterms:W3CDTF">2013-05-24T11:09:19Z</dcterms:modified>
  <cp:revision>132</cp:revision>
  <dc:subject/>
  <dc:title>Complex queries</dc:title>
</cp:coreProperties>
</file>