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2052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ummary functions in queri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reate a query in Design view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desired table(s) and field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On the Design tab, click Totals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relevant cell in the Totals row, select Group By for the necessary field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an expression using a summary functio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From the list in the proper cell of the Totals row, select Expression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ave the query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catenati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ombining values from different fields into one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8:48:13Z</dcterms:created>
  <dc:creator>Santhosh</dc:creator>
  <dc:description/>
  <dc:language>en-US</dc:language>
  <cp:lastModifiedBy>Steve</cp:lastModifiedBy>
  <dcterms:modified xsi:type="dcterms:W3CDTF">2013-05-24T11:09:33Z</dcterms:modified>
  <cp:revision>130</cp:revision>
  <dc:subject/>
  <dc:title>Complex queries</dc:title>
</cp:coreProperties>
</file>