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a chart to a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On the Design tab, click the Chart control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Drag a box on the form to create a char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desired table or query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desired field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 chart typ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Modify the chart layou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ny fields you want to link to the chart and the form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a chart title, select a legend option, and click Finish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hart typ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Ba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rea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XY (Scatter)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Pi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Bub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ghnu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Name the X- and Y-ax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ouble-click the chart to open the form’s Datasheet windo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Right-click the chart and choose Chart Option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the Titles tab and enter a title for the cha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a title for the X-axi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a title for the Y-axi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12:20Z</dcterms:created>
  <dc:creator>Santhosh</dc:creator>
  <dc:description/>
  <dc:language>en-US</dc:language>
  <cp:lastModifiedBy>Steve</cp:lastModifiedBy>
  <dcterms:modified xsi:type="dcterms:W3CDTF">2013-05-24T11:08:16Z</dcterms:modified>
  <cp:revision>71</cp:revision>
  <dc:subject/>
  <dc:title>PowerPoint Presentation</dc:title>
</cp:coreProperties>
</file>