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294920" y="3920040"/>
            <a:ext cx="762012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392004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199840" y="392004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871440" y="99036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447960" y="99036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1294920" y="392004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871440" y="392004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447960" y="392004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296720" y="-360"/>
            <a:ext cx="7623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1294920" y="392004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99840" y="392004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294920" y="3920040"/>
            <a:ext cx="762012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a7967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8640" indent="-458640">
              <a:spcBef>
                <a:spcPts val="799"/>
              </a:spcBef>
              <a:buClr>
                <a:srgbClr val="597a7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lvl="1" marL="917640" indent="-344520">
              <a:spcBef>
                <a:spcPts val="799"/>
              </a:spcBef>
              <a:buClr>
                <a:srgbClr val="597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lvl="2" marL="1434960" indent="-353880">
              <a:spcBef>
                <a:spcPts val="799"/>
              </a:spcBef>
              <a:buClr>
                <a:srgbClr val="597a7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lvl="3" marL="1835280" indent="-236520">
              <a:spcBef>
                <a:spcPts val="799"/>
              </a:spcBef>
              <a:buClr>
                <a:srgbClr val="597a7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lvl="4" marL="2281320" indent="-223920">
              <a:spcBef>
                <a:spcPts val="799"/>
              </a:spcBef>
              <a:buClr>
                <a:srgbClr val="597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lvl="5" marL="228132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lvl="6" marL="228132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pic>
        <p:nvPicPr>
          <p:cNvPr id="2" name="Picture 4" descr="ILT PPT sidebar 2008b"/>
          <p:cNvPicPr/>
          <p:nvPr/>
        </p:nvPicPr>
        <p:blipFill>
          <a:blip r:embed="rId2"/>
          <a:stretch/>
        </p:blipFill>
        <p:spPr>
          <a:xfrm>
            <a:off x="0" y="0"/>
            <a:ext cx="1092240" cy="6856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a7967"/>
                </a:solidFill>
                <a:latin typeface="Arial"/>
              </a:rPr>
              <a:t>Referential integrity</a:t>
            </a: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8640" indent="-458640">
              <a:spcBef>
                <a:spcPts val="799"/>
              </a:spcBef>
              <a:buClr>
                <a:srgbClr val="597a7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Primary table must have a primary key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597a7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Related fields should have the same data type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597a7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Tables must belong to the same database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a7967"/>
                </a:solidFill>
                <a:latin typeface="Arial"/>
              </a:rPr>
              <a:t>Orphan records</a:t>
            </a: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8640" indent="-458640">
              <a:spcBef>
                <a:spcPts val="799"/>
              </a:spcBef>
              <a:buClr>
                <a:srgbClr val="597a7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Records in a table that have no related records in the primary table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597a7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Result from deleting records in the primary table without deleting the related records in the related table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a7967"/>
                </a:solidFill>
                <a:latin typeface="Arial"/>
              </a:rPr>
              <a:t>Use cascading deletes</a:t>
            </a: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597a7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Open the Relationships window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597a7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Double-click the line between tables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597a7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Check Enforce Referential Integrity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597a7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Check Cascade Delete Related Records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597a7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Click OK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a7967"/>
                </a:solidFill>
                <a:latin typeface="Arial"/>
              </a:rPr>
              <a:t>Test cascading deletes</a:t>
            </a: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597a7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Open the desired table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597a7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Navigate to the record to be deleted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597a7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Press Delete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597a7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Click Yes to delete the record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597a7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Update and close the table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597a7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Open a related table to confirm that all related records have been deleted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a7967"/>
                </a:solidFill>
                <a:latin typeface="Arial"/>
              </a:rPr>
              <a:t>Cascading updates</a:t>
            </a: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8640" indent="-458640">
              <a:spcBef>
                <a:spcPts val="799"/>
              </a:spcBef>
              <a:buClr>
                <a:srgbClr val="597a7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Ensure that any changes made in the primary key in the primary table are reflected in the related tables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597a7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Can be set by checking Cascade Update Related Records in the Edit Relationships dialog box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9:25:56Z</dcterms:created>
  <dc:creator>Santhosh</dc:creator>
  <dc:description/>
  <dc:language>en-US</dc:language>
  <cp:lastModifiedBy>Steve</cp:lastModifiedBy>
  <dcterms:modified xsi:type="dcterms:W3CDTF">2013-05-24T11:08:44Z</dcterms:modified>
  <cp:revision>111</cp:revision>
  <dc:subject/>
  <dc:title>Creating relational databases</dc:title>
</cp:coreProperties>
</file>