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 PivotTable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5576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65200" y="1554120"/>
            <a:ext cx="696600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a PivotTable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any cell in a data range that has a heading for each column in the top row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he Insert tab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he PivotTable butt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the range that contains the data to be used in the PivotTab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a location for the PivotTable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Add fields to a PivotTable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73200" y="1414440"/>
            <a:ext cx="70390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Insert a slicer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any cell in a PivotTabl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n the PivotTable Tools | Options tab, click the Insert Slicer button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heck the fields that you want to display as slicer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PivotTable with slicer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636560" y="1317600"/>
            <a:ext cx="6837480" cy="498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42:06Z</dcterms:created>
  <dc:creator>Chris Hale</dc:creator>
  <dc:description/>
  <dc:language>en-US</dc:language>
  <cp:lastModifiedBy>Catherine E. Oliver</cp:lastModifiedBy>
  <dcterms:modified xsi:type="dcterms:W3CDTF">2010-05-05T20:48:54Z</dcterms:modified>
  <cp:revision>6</cp:revision>
  <dc:subject/>
  <dc:title>Slide 1</dc:title>
</cp:coreProperties>
</file>