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Video playback control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0504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32080" y="2298600"/>
            <a:ext cx="559440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Video Tools | Format tab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01800" y="1663560"/>
            <a:ext cx="6618240" cy="8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656160" y="2944800"/>
            <a:ext cx="2852640" cy="8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rim Video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05200" y="1365120"/>
            <a:ext cx="4400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9:39Z</dcterms:created>
  <dc:creator>Chris Hale</dc:creator>
  <dc:description/>
  <dc:language>en-US</dc:language>
  <cp:lastModifiedBy>Catherine E. Oliver</cp:lastModifiedBy>
  <dcterms:modified xsi:type="dcterms:W3CDTF">2010-05-05T20:55:17Z</dcterms:modified>
  <cp:revision>4</cp:revision>
  <dc:subject/>
  <dc:title>Slide 1</dc:title>
</cp:coreProperties>
</file>