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Backstage view in Wor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84240" y="1176480"/>
            <a:ext cx="639936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Document Pane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97160" y="1843200"/>
            <a:ext cx="735012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File type option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43200" y="1160640"/>
            <a:ext cx="6591240" cy="543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rint setting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66960" y="1120680"/>
            <a:ext cx="6545160" cy="54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Options for saving documen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25480" y="2228760"/>
            <a:ext cx="6774120" cy="159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covering a draf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19550" r="0" b="0"/>
          <a:stretch/>
        </p:blipFill>
        <p:spPr>
          <a:xfrm>
            <a:off x="1846440" y="1733400"/>
            <a:ext cx="6572160" cy="372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4389480" y="4321080"/>
            <a:ext cx="3878280" cy="822600"/>
          </a:xfrm>
          <a:prstGeom prst="ellipse">
            <a:avLst/>
          </a:prstGeom>
          <a:noFill/>
          <a:ln w="19080">
            <a:solidFill>
              <a:srgbClr val="597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PDF document created in Word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63720" y="1204920"/>
            <a:ext cx="6462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15:45Z</dcterms:created>
  <dc:creator>Chris Hale</dc:creator>
  <dc:description/>
  <dc:language>en-US</dc:language>
  <cp:lastModifiedBy>Catherine E. Oliver</cp:lastModifiedBy>
  <dcterms:modified xsi:type="dcterms:W3CDTF">2010-05-05T20:42:21Z</dcterms:modified>
  <cp:revision>10</cp:revision>
  <dc:subject/>
  <dc:title>Slide 1</dc:title>
</cp:coreProperties>
</file>