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Message composition window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967040" y="1979640"/>
          <a:ext cx="650880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7040" y="1979640"/>
                    <a:ext cx="650880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Reply to a message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Preview or open the message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Reply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ompose the message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Send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onversations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New to Outlook 2010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All of the messages that share a Subject line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597a7b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In any folder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00"/>
              </a:spcBef>
              <a:buClr>
                <a:srgbClr val="597a7b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From any sender (including you)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onversation managemen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ean Up </a:t>
            </a: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Arial"/>
              </a:rPr>
              <a:t>—</a:t>
            </a: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 Remove duplicated information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Ignore </a:t>
            </a: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Arial"/>
              </a:rPr>
              <a:t>—</a:t>
            </a: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  Delete entire conversation (including future messages)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08:06:36Z</dcterms:created>
  <dc:creator>Chris Hale</dc:creator>
  <dc:description/>
  <dc:language>en-US</dc:language>
  <cp:lastModifiedBy>Catherine E. Oliver</cp:lastModifiedBy>
  <dcterms:modified xsi:type="dcterms:W3CDTF">2010-05-05T21:28:51Z</dcterms:modified>
  <cp:revision>5</cp:revision>
  <dc:subject/>
  <dc:title>Slide 1</dc:title>
</cp:coreProperties>
</file>