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Minimize the Ribb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he Minimize the Ribbon </a:t>
            </a:r>
            <a:br>
              <a:rPr sz="3200"/>
            </a:b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button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uble-click the active tab 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6580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inimize the ribbon" descr=""/>
          <p:cNvPicPr/>
          <p:nvPr/>
        </p:nvPicPr>
        <p:blipFill>
          <a:blip r:embed="rId1"/>
          <a:stretch/>
        </p:blipFill>
        <p:spPr>
          <a:xfrm>
            <a:off x="3116160" y="1644480"/>
            <a:ext cx="366840" cy="3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ustomize the Ribb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27400" y="1308240"/>
            <a:ext cx="5511600" cy="510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Hide and remove tab element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hide a tab, uncheck its box on the Customize the Ribbon page of the Options dialog box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remove a command group, select it and click Remov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reate custom tabs and group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Customize the Ribbon page of the Options dialog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New Tab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rename the tab, select it, click Rename, type a name,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o rename the default group, select it, click Rename, type a name, and 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Reset the Ribbon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7680" indent="-517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Open the Customize the Ribbon page of the Options dialog box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Do either of the following: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1219320" indent="-53352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Reset a single tab: Select the tab, click Reset, and choose “Reset only selected Ribbon tab”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lvl="1" marL="1219320" indent="-533520">
              <a:spcBef>
                <a:spcPts val="700"/>
              </a:spcBef>
              <a:buClr>
                <a:srgbClr val="597a7b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7967"/>
                </a:solidFill>
                <a:latin typeface="Arial"/>
              </a:rPr>
              <a:t>Reset all customizations: Click Reset, choose “Reset all customizations,” and click Yes</a:t>
            </a:r>
            <a:endParaRPr b="0" lang="en-US" sz="2800" spc="-1" strike="noStrike">
              <a:solidFill>
                <a:srgbClr val="8a7967"/>
              </a:solidFill>
              <a:latin typeface="Arial"/>
            </a:endParaRPr>
          </a:p>
          <a:p>
            <a:pPr marL="517680" indent="-517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06:14Z</dcterms:created>
  <dc:creator>Chris Hale</dc:creator>
  <dc:description/>
  <dc:language>en-US</dc:language>
  <cp:lastModifiedBy>Catherine E. Oliver</cp:lastModifiedBy>
  <dcterms:modified xsi:type="dcterms:W3CDTF">2010-05-05T20:36:39Z</dcterms:modified>
  <cp:revision>11</cp:revision>
  <dc:subject/>
  <dc:title>Slide 1</dc:title>
</cp:coreProperties>
</file>