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294920" y="392004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19984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7144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44796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29492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87144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44796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296720" y="-360"/>
            <a:ext cx="7623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19984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7967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597a7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1" marL="917640" indent="-344520">
              <a:spcBef>
                <a:spcPts val="799"/>
              </a:spcBef>
              <a:buClr>
                <a:srgbClr val="597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2" marL="1434960" indent="-353880">
              <a:spcBef>
                <a:spcPts val="799"/>
              </a:spcBef>
              <a:buClr>
                <a:srgbClr val="597a7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3" marL="1835280" indent="-236520">
              <a:spcBef>
                <a:spcPts val="799"/>
              </a:spcBef>
              <a:buClr>
                <a:srgbClr val="597a7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4" marL="2281320" indent="-223920">
              <a:spcBef>
                <a:spcPts val="799"/>
              </a:spcBef>
              <a:buClr>
                <a:srgbClr val="597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5" marL="228132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6" marL="228132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92240" cy="6856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0" y="6397560"/>
            <a:ext cx="1085760" cy="365040"/>
          </a:xfrm>
          <a:prstGeom prst="rect">
            <a:avLst/>
          </a:prstGeom>
          <a:solidFill>
            <a:srgbClr val="597a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7967"/>
                </a:solidFill>
                <a:latin typeface="Arial"/>
              </a:rPr>
              <a:t>Sparklines</a:t>
            </a: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0" y="6397560"/>
            <a:ext cx="1085760" cy="365040"/>
          </a:xfrm>
          <a:prstGeom prst="rect">
            <a:avLst/>
          </a:prstGeom>
          <a:solidFill>
            <a:srgbClr val="597a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rcRect l="461" t="24835" r="39311" b="45919"/>
          <a:stretch/>
        </p:blipFill>
        <p:spPr>
          <a:xfrm>
            <a:off x="1508040" y="1803240"/>
            <a:ext cx="716616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7967"/>
                </a:solidFill>
                <a:latin typeface="Arial"/>
              </a:rPr>
              <a:t>Create Sparklines dialog box</a:t>
            </a: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251080" y="1913040"/>
            <a:ext cx="5594400" cy="34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3T07:40:02Z</dcterms:created>
  <dc:creator>Chris Hale</dc:creator>
  <dc:description/>
  <dc:language>en-US</dc:language>
  <cp:lastModifiedBy>Catherine E. Oliver</cp:lastModifiedBy>
  <dcterms:modified xsi:type="dcterms:W3CDTF">2010-05-05T20:45:10Z</dcterms:modified>
  <cp:revision>4</cp:revision>
  <dc:subject/>
  <dc:title>Slide 1</dc:title>
</cp:coreProperties>
</file>