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a7967"/>
                </a:solidFill>
                <a:latin typeface="Arial"/>
              </a:rPr>
              <a:t>Use the Navigation Pane to find text</a:t>
            </a:r>
            <a:endParaRPr b="0" lang="en-US" sz="36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452600" y="1332000"/>
          <a:ext cx="7348680" cy="48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1332000"/>
                    <a:ext cx="7348680" cy="48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Outline level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19200" y="1395360"/>
            <a:ext cx="5247000" cy="488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Browse headings and page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949400" y="1119240"/>
          <a:ext cx="6546960" cy="537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9400" y="1119240"/>
                    <a:ext cx="654696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7:36:36Z</dcterms:created>
  <dc:creator>Chris Hale</dc:creator>
  <dc:description/>
  <dc:language>en-US</dc:language>
  <cp:lastModifiedBy>Catherine E. Oliver</cp:lastModifiedBy>
  <dcterms:modified xsi:type="dcterms:W3CDTF">2010-05-05T20:43:16Z</dcterms:modified>
  <cp:revision>5</cp:revision>
  <dc:subject/>
  <dc:title>Slide 1</dc:title>
</cp:coreProperties>
</file>