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Outlook Social Connecto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Links Outlook to social network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Microsoft SharePoint Servic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-party softwar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LinkedIn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Facebook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Twitter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Others?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eople Pan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hows OSC informa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hows contact detail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14440" y="2376360"/>
            <a:ext cx="6161040" cy="4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Expanded People Pan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075040" y="2043000"/>
            <a:ext cx="6105240" cy="279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tact car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0360" y="2146320"/>
            <a:ext cx="49910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inning a contact car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920960" y="1219320"/>
            <a:ext cx="628956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14:11Z</dcterms:created>
  <dc:creator>Chris Hale</dc:creator>
  <dc:description/>
  <dc:language>en-US</dc:language>
  <cp:lastModifiedBy>Catherine E. Oliver</cp:lastModifiedBy>
  <dcterms:modified xsi:type="dcterms:W3CDTF">2010-05-05T21:33:34Z</dcterms:modified>
  <cp:revision>5</cp:revision>
  <dc:subject/>
  <dc:title>Slide 1</dc:title>
</cp:coreProperties>
</file>