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Outlook 2010 wind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30360" y="954000"/>
            <a:ext cx="6892920" cy="5614920"/>
            <a:chOff x="1530360" y="954000"/>
            <a:chExt cx="6892920" cy="561492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861920" y="1687320"/>
              <a:ext cx="6526440" cy="4881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" name=""/>
            <p:cNvSpPr/>
            <p:nvPr/>
          </p:nvSpPr>
          <p:spPr>
            <a:xfrm>
              <a:off x="1530360" y="954000"/>
              <a:ext cx="1821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Quick Access toolb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27040" y="1295280"/>
              <a:ext cx="47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a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09800" y="1290600"/>
              <a:ext cx="744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Ribb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91040" y="1297080"/>
              <a:ext cx="831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itle b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85240" y="1068480"/>
              <a:ext cx="9748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Command</a:t>
              </a:r>
              <a:br>
                <a:rPr sz="1500"/>
              </a:b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tt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25400" y="15541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46400" y="15472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116240" y="156996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675120" y="1297080"/>
              <a:ext cx="9396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tatus ba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7099200" y="1554120"/>
              <a:ext cx="0" cy="49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18000" y="15382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3927960" y="1424520"/>
              <a:ext cx="88920" cy="1226880"/>
            </a:xfrm>
            <a:custGeom>
              <a:avLst/>
              <a:gdLst>
                <a:gd name="textAreaLeft" fmla="*/ 25920 w 88920"/>
                <a:gd name="textAreaRight" fmla="*/ 89280 w 88920"/>
                <a:gd name="textAreaTop" fmla="*/ 51120 h 1226880"/>
                <a:gd name="textAreaBottom" fmla="*/ 1175760 h 122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176200" y="12398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33480" y="1851120"/>
              <a:ext cx="6589800" cy="677880"/>
            </a:xfrm>
            <a:prstGeom prst="rect">
              <a:avLst/>
            </a:prstGeom>
            <a:noFill/>
            <a:ln w="12600">
              <a:solidFill>
                <a:srgbClr val="597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Outlook-specific UI elemen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33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498760" y="2106720"/>
            <a:ext cx="5840280" cy="43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6211080" y="1420920"/>
            <a:ext cx="816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18240" y="1908000"/>
            <a:ext cx="0" cy="11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0440" y="2917800"/>
            <a:ext cx="219240" cy="2468520"/>
          </a:xfrm>
          <a:custGeom>
            <a:avLst/>
            <a:gdLst>
              <a:gd name="textAreaLeft" fmla="*/ 140040 w 219240"/>
              <a:gd name="textAreaRight" fmla="*/ 219600 w 219240"/>
              <a:gd name="textAreaTop" fmla="*/ 64080 h 2468520"/>
              <a:gd name="textAreaBottom" fmla="*/ 2404440 h 2468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5520" y="1420920"/>
            <a:ext cx="107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o-Do Bar (collapsed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70920" y="1924200"/>
            <a:ext cx="0" cy="10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66080" y="1420920"/>
            <a:ext cx="1142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lder 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ents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41720" y="1913040"/>
            <a:ext cx="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92440" y="1420920"/>
            <a:ext cx="680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ld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44880" y="1928880"/>
            <a:ext cx="0" cy="10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69720" y="1420920"/>
            <a:ext cx="10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vig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89200" y="1924200"/>
            <a:ext cx="0" cy="9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19480" y="5448240"/>
            <a:ext cx="147600" cy="939960"/>
          </a:xfrm>
          <a:custGeom>
            <a:avLst/>
            <a:gdLst>
              <a:gd name="textAreaLeft" fmla="*/ 94320 w 147600"/>
              <a:gd name="textAreaRight" fmla="*/ 147960 w 147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0640" y="3870360"/>
            <a:ext cx="6883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6280" y="5545080"/>
            <a:ext cx="924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ane-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tt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ontext-sensitive tab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6120" y="5095800"/>
            <a:ext cx="2206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alendar pane’s Home ta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68960" y="2762280"/>
            <a:ext cx="1878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ail pane’s Home ta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820880" y="3962520"/>
            <a:ext cx="6543720" cy="1095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74800" y="1596960"/>
            <a:ext cx="6391440" cy="10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55:02Z</dcterms:created>
  <dc:creator>Chris Hale</dc:creator>
  <dc:description/>
  <dc:language>en-US</dc:language>
  <cp:lastModifiedBy>Catherine E. Oliver</cp:lastModifiedBy>
  <dcterms:modified xsi:type="dcterms:W3CDTF">2010-05-05T21:22:56Z</dcterms:modified>
  <cp:revision>10</cp:revision>
  <dc:subject/>
  <dc:title>Slide 1</dc:title>
</cp:coreProperties>
</file>