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The Excel Ribbon (Home tab)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92320" y="1662120"/>
            <a:ext cx="5740560" cy="12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0" y="6397560"/>
            <a:ext cx="1085760" cy="365040"/>
          </a:xfrm>
          <a:prstGeom prst="rect">
            <a:avLst/>
          </a:prstGeom>
          <a:solidFill>
            <a:srgbClr val="597a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952720" y="3465360"/>
            <a:ext cx="4003560" cy="125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The Cell Styles gallery in Excel 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76400" y="1531800"/>
            <a:ext cx="625788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Live Preview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95560" y="163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52560" y="1347840"/>
            <a:ext cx="644544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Dialog Box Launcher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63600" y="138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84440" y="1411200"/>
            <a:ext cx="6024600" cy="5105520"/>
            <a:chOff x="1684440" y="1411200"/>
            <a:chExt cx="6024600" cy="510552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1684440" y="1411200"/>
              <a:ext cx="6024600" cy="51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flipV="1">
              <a:off x="7704000" y="1433520"/>
              <a:ext cx="0" cy="507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Quick Access toolbar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Add a commonly used command: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Right-click a Ribbon elemen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hoose Add to Quick Access Toolbar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Quick Access toolbar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Add a hidden command: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  <a:ea typeface="Times New Roman"/>
              </a:rPr>
              <a:t>Open the Customize the Quick Access Toolbar page in the Options dialog box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rom the “Choose commands from” list, select the type of commands you want to see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lect the desired command and click Add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OK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Status-bar View buttons in Excel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50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30480" y="2481120"/>
            <a:ext cx="541188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Zoom buttons and slider bar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2116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59040" y="2168640"/>
            <a:ext cx="4205160" cy="15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6:43:23Z</dcterms:created>
  <dc:creator>Chris Hale</dc:creator>
  <dc:description/>
  <dc:language>en-US</dc:language>
  <cp:lastModifiedBy>Catherine E. Oliver</cp:lastModifiedBy>
  <dcterms:modified xsi:type="dcterms:W3CDTF">2010-05-05T20:38:23Z</dcterms:modified>
  <cp:revision>8</cp:revision>
  <dc:subject/>
  <dc:title>Slide 1</dc:title>
</cp:coreProperties>
</file>