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a PivotChar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any cell in a Pivot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PivotTable Tools | Options tab, click PivotChart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In the Insert Chart dialog box, select options as you would for a standard char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 PivotChar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11320" y="1752480"/>
            <a:ext cx="623412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46:28Z</dcterms:created>
  <dc:creator>Chris Hale</dc:creator>
  <dc:description/>
  <dc:language>en-US</dc:language>
  <cp:lastModifiedBy>Catherine E. Oliver</cp:lastModifiedBy>
  <dcterms:modified xsi:type="dcterms:W3CDTF">2010-05-05T20:50:01Z</dcterms:modified>
  <cp:revision>4</cp:revision>
  <dc:subject/>
  <dc:title>Slide 1</dc:title>
</cp:coreProperties>
</file>