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Lookup field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reated in the Design view of a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xtract a list of values from a field in another 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elete any relationships between the tables before creating a lookup fiel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lookup lis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25640" y="1332000"/>
            <a:ext cx="431496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ttachment data typ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Open a table in Design view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Add a field to house the attachment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Under Data Type, select Attachmen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ave the tabl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witch to Datasheet view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Right-click the Attachment field for the first record and choose Manage Attachment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Add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the desired file and click Ope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19:04Z</dcterms:created>
  <dc:creator>Chris Hale</dc:creator>
  <dc:description/>
  <dc:language>en-US</dc:language>
  <cp:lastModifiedBy>Catherine E. Oliver</cp:lastModifiedBy>
  <dcterms:modified xsi:type="dcterms:W3CDTF">2010-05-05T21:37:05Z</dcterms:modified>
  <cp:revision>3</cp:revision>
  <dc:subject/>
  <dc:title>Lookup lists</dc:title>
</cp:coreProperties>
</file>