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Quick Step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990720"/>
            <a:ext cx="762012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Macros” for common action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Perform one or more action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Built-in Quick Steps: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Move to: ?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Team E-mail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Reply &amp; Delete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840040" y="4678200"/>
            <a:ext cx="3867120" cy="127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4962600" y="2732040"/>
            <a:ext cx="306216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1680" indent="-343080">
              <a:lnSpc>
                <a:spcPct val="100000"/>
              </a:lnSpc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To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43080">
              <a:lnSpc>
                <a:spcPct val="100000"/>
              </a:lnSpc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343080">
              <a:lnSpc>
                <a:spcPct val="100000"/>
              </a:lnSpc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  <a:ea typeface="Times New Roman"/>
              </a:rPr>
              <a:t>Create N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onfigure Quick Step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All but Reply &amp; Delete require initial configura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Move to: ? </a:t>
            </a:r>
            <a:br>
              <a:rPr sz="2800"/>
            </a:b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You must select a destination folder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ing a Quick Step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Create Ne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Enter a nam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the first ac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onfigure that ac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Repeat steps 3-4 as neede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tional: Select a shortcut key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tional: Enter tooltip tex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Finish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11:25Z</dcterms:created>
  <dc:creator>Chris Hale</dc:creator>
  <dc:description/>
  <dc:language>en-US</dc:language>
  <cp:lastModifiedBy>Catherine E. Oliver</cp:lastModifiedBy>
  <dcterms:modified xsi:type="dcterms:W3CDTF">2010-05-05T21:31:47Z</dcterms:modified>
  <cp:revision>3</cp:revision>
  <dc:subject/>
  <dc:title>Slide 1</dc:title>
</cp:coreProperties>
</file>