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67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59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67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59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436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OV 5 - </a:t>
            </a:r>
            <a:fld id="{F7D9D918-6FA1-4C39-B03B-66B230983283}" type="slidenum"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6551640"/>
            <a:ext cx="3641040" cy="236520"/>
            <a:chOff x="0" y="6551640"/>
            <a:chExt cx="3641040" cy="23652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6551640"/>
              <a:ext cx="3641040" cy="233280"/>
              <a:chOff x="0" y="6551640"/>
              <a:chExt cx="3641040" cy="23328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199080" y="6551640"/>
                <a:ext cx="3441960" cy="231120"/>
                <a:chOff x="199080" y="6551640"/>
                <a:chExt cx="3441960" cy="2311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201600" y="6551640"/>
                  <a:ext cx="3430440" cy="225360"/>
                </a:xfrm>
                <a:prstGeom prst="roundRect">
                  <a:avLst>
                    <a:gd name="adj" fmla="val 7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Group 9"/>
                <p:cNvGrpSpPr/>
                <p:nvPr/>
              </p:nvGrpSpPr>
              <p:grpSpPr>
                <a:xfrm>
                  <a:off x="199080" y="6551640"/>
                  <a:ext cx="3441960" cy="231120"/>
                  <a:chOff x="199080" y="6551640"/>
                  <a:chExt cx="3441960" cy="231120"/>
                </a:xfrm>
              </p:grpSpPr>
              <p:sp>
                <p:nvSpPr>
                  <p:cNvPr id="9" name="AutoShape 10"/>
                  <p:cNvSpPr/>
                  <p:nvPr/>
                </p:nvSpPr>
                <p:spPr>
                  <a:xfrm>
                    <a:off x="201600" y="6551640"/>
                    <a:ext cx="3429000" cy="223920"/>
                  </a:xfrm>
                  <a:prstGeom prst="roundRect">
                    <a:avLst>
                      <a:gd name="adj" fmla="val 7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" name="Group 11"/>
                  <p:cNvGrpSpPr/>
                  <p:nvPr/>
                </p:nvGrpSpPr>
                <p:grpSpPr>
                  <a:xfrm>
                    <a:off x="199080" y="6551640"/>
                    <a:ext cx="3441960" cy="231120"/>
                    <a:chOff x="199080" y="6551640"/>
                    <a:chExt cx="3441960" cy="231120"/>
                  </a:xfrm>
                </p:grpSpPr>
                <p:sp>
                  <p:nvSpPr>
                    <p:cNvPr id="11" name="AutoShape 12"/>
                    <p:cNvSpPr/>
                    <p:nvPr/>
                  </p:nvSpPr>
                  <p:spPr>
                    <a:xfrm>
                      <a:off x="201600" y="6551640"/>
                      <a:ext cx="3427560" cy="2239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AutoShape 13"/>
                    <p:cNvSpPr/>
                    <p:nvPr/>
                  </p:nvSpPr>
                  <p:spPr>
                    <a:xfrm>
                      <a:off x="199080" y="6551640"/>
                      <a:ext cx="3441960" cy="2311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4c4c4"/>
                          </a:solidFill>
                          <a:latin typeface="Times New Roman"/>
                        </a:rPr>
                        <a:t>Copyright © 2011 Element K Content LLC. All rights reserve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ustomizing and Enhancing the Excel Environ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249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the Exce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ize Work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Use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General and View Settings in Excel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6520" y="1219320"/>
            <a:ext cx="397188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73600" y="1219320"/>
            <a:ext cx="398952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21040" y="1562040"/>
            <a:ext cx="704664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Color Schem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716840" y="1622520"/>
            <a:ext cx="304920" cy="4267080"/>
          </a:xfrm>
          <a:custGeom>
            <a:avLst/>
            <a:gdLst>
              <a:gd name="textAreaLeft" fmla="*/ -360 w 304920"/>
              <a:gd name="textAreaRight" fmla="*/ 109800 w 30492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720" y="3413160"/>
            <a:ext cx="15400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l environ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 diffe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sch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4700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m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144880" y="420228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240" y="4005360"/>
            <a:ext cx="169236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icates a com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thin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720" y="487692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6360" y="4726080"/>
            <a:ext cx="8834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371760" cy="438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3352680" cy="4381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Hyperlin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892160" y="481824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2960" y="5278320"/>
            <a:ext cx="8773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perlin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44640" y="46353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hem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Line 1168"/>
          <p:cNvSpPr/>
          <p:nvPr/>
        </p:nvSpPr>
        <p:spPr>
          <a:xfrm>
            <a:off x="1828800" y="22860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28800" y="2298600"/>
            <a:ext cx="1260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309"/>
          <p:cNvSpPr/>
          <p:nvPr/>
        </p:nvSpPr>
        <p:spPr>
          <a:xfrm>
            <a:off x="1037160" y="2870280"/>
            <a:ext cx="1081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spa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168"/>
          <p:cNvSpPr/>
          <p:nvPr/>
        </p:nvSpPr>
        <p:spPr>
          <a:xfrm>
            <a:off x="1828800" y="4800600"/>
            <a:ext cx="105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168"/>
          <p:cNvSpPr/>
          <p:nvPr/>
        </p:nvSpPr>
        <p:spPr>
          <a:xfrm>
            <a:off x="2168640" y="2070000"/>
            <a:ext cx="103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168"/>
          <p:cNvSpPr/>
          <p:nvPr/>
        </p:nvSpPr>
        <p:spPr>
          <a:xfrm>
            <a:off x="2155680" y="4572000"/>
            <a:ext cx="103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09"/>
          <p:cNvSpPr/>
          <p:nvPr/>
        </p:nvSpPr>
        <p:spPr>
          <a:xfrm>
            <a:off x="1281240" y="4437000"/>
            <a:ext cx="901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 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309"/>
          <p:cNvSpPr/>
          <p:nvPr/>
        </p:nvSpPr>
        <p:spPr>
          <a:xfrm>
            <a:off x="1596960" y="1922400"/>
            <a:ext cx="9014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 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9160" y="1854360"/>
            <a:ext cx="11484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ice Th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25720" y="3886200"/>
            <a:ext cx="52275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25720" y="1476360"/>
            <a:ext cx="52275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Line 1168"/>
          <p:cNvSpPr/>
          <p:nvPr/>
        </p:nvSpPr>
        <p:spPr>
          <a:xfrm>
            <a:off x="1447920" y="1747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309"/>
          <p:cNvSpPr/>
          <p:nvPr/>
        </p:nvSpPr>
        <p:spPr>
          <a:xfrm>
            <a:off x="922680" y="1592280"/>
            <a:ext cx="578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168"/>
          <p:cNvSpPr/>
          <p:nvPr/>
        </p:nvSpPr>
        <p:spPr>
          <a:xfrm>
            <a:off x="1447920" y="41940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309"/>
          <p:cNvSpPr/>
          <p:nvPr/>
        </p:nvSpPr>
        <p:spPr>
          <a:xfrm>
            <a:off x="922680" y="4038480"/>
            <a:ext cx="578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Templat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7199280" cy="44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167240" y="4495680"/>
            <a:ext cx="17658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defined format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326"/>
          <p:cNvSpPr/>
          <p:nvPr/>
        </p:nvSpPr>
        <p:spPr>
          <a:xfrm>
            <a:off x="6775560" y="41148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1066680"/>
              <a:gd name="textAreaBottom" fmla="*/ 1050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16200" y="10800"/>
                  <a:pt x="21600" y="10800"/>
                </a:cubicBezTo>
                <a:cubicBezTo>
                  <a:pt x="162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137"/>
          <p:cNvSpPr/>
          <p:nvPr/>
        </p:nvSpPr>
        <p:spPr>
          <a:xfrm>
            <a:off x="4572000" y="1295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309"/>
          <p:cNvSpPr/>
          <p:nvPr/>
        </p:nvSpPr>
        <p:spPr>
          <a:xfrm>
            <a:off x="2589120" y="1219320"/>
            <a:ext cx="39783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xcel template is indicated by the extension .xl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6848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6320" y="1162080"/>
            <a:ext cx="821844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In which situations will you hide the Ribb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are the various possible targets that might be included in your workbook hyperlink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.</cp:lastModifiedBy>
  <dcterms:modified xsi:type="dcterms:W3CDTF">2011-03-15T13:40:09Z</dcterms:modified>
  <cp:revision>187</cp:revision>
  <dc:subject/>
  <dc:title>Lesson Outline (Managing AdWords Campaigns)</dc:title>
</cp:coreProperties>
</file>