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024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024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11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9200" y="1060560"/>
            <a:ext cx="40111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11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9200" y="3845160"/>
            <a:ext cx="40111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67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6760" y="1060560"/>
            <a:ext cx="26467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15960" y="1060560"/>
            <a:ext cx="26467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67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6760" y="3845160"/>
            <a:ext cx="26467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15960" y="3845160"/>
            <a:ext cx="26467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0240" cy="53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024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11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9200" y="1060560"/>
            <a:ext cx="40111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01240"/>
            <a:ext cx="684360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11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9200" y="1060560"/>
            <a:ext cx="40111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11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11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9200" y="1060560"/>
            <a:ext cx="40111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9200" y="3845160"/>
            <a:ext cx="40111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11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200" y="1060560"/>
            <a:ext cx="40111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024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27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2"/>
          <p:cNvSpPr/>
          <p:nvPr/>
        </p:nvSpPr>
        <p:spPr>
          <a:xfrm>
            <a:off x="8178840" y="6551640"/>
            <a:ext cx="96516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c4c4c4"/>
                </a:solidFill>
                <a:latin typeface="Times New Roman"/>
              </a:rPr>
              <a:t>OV 3 - </a:t>
            </a:r>
            <a:fld id="{B9C482B3-ADFB-4C54-BDA3-01F7F70237D4}" type="slidenum">
              <a:rPr b="0" lang="en-GB" sz="800" spc="-1" strike="noStrike">
                <a:solidFill>
                  <a:srgbClr val="c4c4c4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0" y="6551640"/>
            <a:ext cx="3641040" cy="236520"/>
            <a:chOff x="0" y="6551640"/>
            <a:chExt cx="3641040" cy="236520"/>
          </a:xfrm>
        </p:grpSpPr>
        <p:sp>
          <p:nvSpPr>
            <p:cNvPr id="3" name="AutoShape 4"/>
            <p:cNvSpPr/>
            <p:nvPr/>
          </p:nvSpPr>
          <p:spPr>
            <a:xfrm>
              <a:off x="0" y="6551640"/>
              <a:ext cx="3638520" cy="236520"/>
            </a:xfrm>
            <a:prstGeom prst="roundRect">
              <a:avLst>
                <a:gd name="adj" fmla="val 67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Group 5"/>
            <p:cNvGrpSpPr/>
            <p:nvPr/>
          </p:nvGrpSpPr>
          <p:grpSpPr>
            <a:xfrm>
              <a:off x="0" y="6551640"/>
              <a:ext cx="3641040" cy="233280"/>
              <a:chOff x="0" y="6551640"/>
              <a:chExt cx="3641040" cy="233280"/>
            </a:xfrm>
          </p:grpSpPr>
          <p:sp>
            <p:nvSpPr>
              <p:cNvPr id="5" name="AutoShape 6"/>
              <p:cNvSpPr/>
              <p:nvPr/>
            </p:nvSpPr>
            <p:spPr>
              <a:xfrm>
                <a:off x="0" y="6551640"/>
                <a:ext cx="3635280" cy="233280"/>
              </a:xfrm>
              <a:prstGeom prst="roundRect">
                <a:avLst>
                  <a:gd name="adj" fmla="val 68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" name="Group 7"/>
              <p:cNvGrpSpPr/>
              <p:nvPr/>
            </p:nvGrpSpPr>
            <p:grpSpPr>
              <a:xfrm>
                <a:off x="199080" y="6551640"/>
                <a:ext cx="3441960" cy="231120"/>
                <a:chOff x="199080" y="6551640"/>
                <a:chExt cx="3441960" cy="231120"/>
              </a:xfrm>
            </p:grpSpPr>
            <p:sp>
              <p:nvSpPr>
                <p:cNvPr id="7" name="AutoShape 8"/>
                <p:cNvSpPr/>
                <p:nvPr/>
              </p:nvSpPr>
              <p:spPr>
                <a:xfrm>
                  <a:off x="201600" y="6551640"/>
                  <a:ext cx="3430440" cy="225360"/>
                </a:xfrm>
                <a:prstGeom prst="roundRect">
                  <a:avLst>
                    <a:gd name="adj" fmla="val 704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" name="Group 9"/>
                <p:cNvGrpSpPr/>
                <p:nvPr/>
              </p:nvGrpSpPr>
              <p:grpSpPr>
                <a:xfrm>
                  <a:off x="199080" y="6551640"/>
                  <a:ext cx="3441960" cy="231120"/>
                  <a:chOff x="199080" y="6551640"/>
                  <a:chExt cx="3441960" cy="231120"/>
                </a:xfrm>
              </p:grpSpPr>
              <p:sp>
                <p:nvSpPr>
                  <p:cNvPr id="9" name="AutoShape 10"/>
                  <p:cNvSpPr/>
                  <p:nvPr/>
                </p:nvSpPr>
                <p:spPr>
                  <a:xfrm>
                    <a:off x="201600" y="6551640"/>
                    <a:ext cx="3429000" cy="223920"/>
                  </a:xfrm>
                  <a:prstGeom prst="roundRect">
                    <a:avLst>
                      <a:gd name="adj" fmla="val 713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" name="Group 11"/>
                  <p:cNvGrpSpPr/>
                  <p:nvPr/>
                </p:nvGrpSpPr>
                <p:grpSpPr>
                  <a:xfrm>
                    <a:off x="199080" y="6551640"/>
                    <a:ext cx="3441960" cy="231120"/>
                    <a:chOff x="199080" y="6551640"/>
                    <a:chExt cx="3441960" cy="231120"/>
                  </a:xfrm>
                </p:grpSpPr>
                <p:sp>
                  <p:nvSpPr>
                    <p:cNvPr id="11" name="AutoShape 12"/>
                    <p:cNvSpPr/>
                    <p:nvPr/>
                  </p:nvSpPr>
                  <p:spPr>
                    <a:xfrm>
                      <a:off x="201600" y="6551640"/>
                      <a:ext cx="3427560" cy="223920"/>
                    </a:xfrm>
                    <a:prstGeom prst="roundRect">
                      <a:avLst>
                        <a:gd name="adj" fmla="val 713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" name="AutoShape 13"/>
                    <p:cNvSpPr/>
                    <p:nvPr/>
                  </p:nvSpPr>
                  <p:spPr>
                    <a:xfrm>
                      <a:off x="199080" y="6551640"/>
                      <a:ext cx="3441960" cy="231120"/>
                    </a:xfrm>
                    <a:prstGeom prst="roundRect">
                      <a:avLst>
                        <a:gd name="adj" fmla="val 713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4c4c4"/>
                          </a:solidFill>
                          <a:latin typeface="Times New Roman"/>
                        </a:rPr>
                        <a:t>Copyright © 2011 Element K Content LLC. All rights reserved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024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1600"/>
            <a:ext cx="68486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Presenting Data Using Chart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060200"/>
            <a:ext cx="8224920" cy="53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93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3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y Ch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t Ch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95240" y="1833480"/>
            <a:ext cx="7047000" cy="438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hart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6483600" y="4879800"/>
            <a:ext cx="723240" cy="27648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ege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524200" y="3941640"/>
            <a:ext cx="639720" cy="0"/>
            <a:chOff x="5524200" y="3941640"/>
            <a:chExt cx="639720" cy="0"/>
          </a:xfrm>
        </p:grpSpPr>
        <p:sp>
          <p:nvSpPr>
            <p:cNvPr id="57" name=""/>
            <p:cNvSpPr/>
            <p:nvPr/>
          </p:nvSpPr>
          <p:spPr>
            <a:xfrm flipH="1">
              <a:off x="5524200" y="3941640"/>
              <a:ext cx="609480" cy="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554440" y="39416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6122880" y="3792600"/>
            <a:ext cx="892440" cy="27648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hart tit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59400" y="4641840"/>
            <a:ext cx="117720" cy="838080"/>
          </a:xfrm>
          <a:custGeom>
            <a:avLst/>
            <a:gdLst>
              <a:gd name="textAreaLeft" fmla="*/ 0 w 117720"/>
              <a:gd name="textAreaRight" fmla="*/ 42480 w 1177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15720" y="4668840"/>
            <a:ext cx="851400" cy="27648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ar cha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71800" y="4800600"/>
            <a:ext cx="871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5181840" cy="505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hart Element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1430280" y="3740040"/>
            <a:ext cx="885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0840" y="3511440"/>
            <a:ext cx="107532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ax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55920" y="2235240"/>
            <a:ext cx="1339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800" y="2082960"/>
            <a:ext cx="107532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ax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454720" y="3351240"/>
            <a:ext cx="2590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48520" y="4952880"/>
            <a:ext cx="1466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88720" y="4800600"/>
            <a:ext cx="126720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rizontal ax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762080" y="1420920"/>
            <a:ext cx="609480" cy="255600"/>
            <a:chOff x="4762080" y="1420920"/>
            <a:chExt cx="609480" cy="255600"/>
          </a:xfrm>
        </p:grpSpPr>
        <p:sp>
          <p:nvSpPr>
            <p:cNvPr id="73" name=""/>
            <p:cNvSpPr/>
            <p:nvPr/>
          </p:nvSpPr>
          <p:spPr>
            <a:xfrm flipH="1">
              <a:off x="4762080" y="142668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4762440" y="1420920"/>
              <a:ext cx="0" cy="25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5266080" y="1236600"/>
            <a:ext cx="49464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30880" y="3789360"/>
            <a:ext cx="185760" cy="838080"/>
          </a:xfrm>
          <a:custGeom>
            <a:avLst/>
            <a:gdLst>
              <a:gd name="textAreaLeft" fmla="*/ 0 w 185760"/>
              <a:gd name="textAreaRight" fmla="*/ 66960 w 1857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394760" y="4044960"/>
            <a:ext cx="72324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98800" y="3218040"/>
            <a:ext cx="98856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 labe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87520" y="5726160"/>
            <a:ext cx="885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66880" y="5591160"/>
            <a:ext cx="91080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 t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66680"/>
            <a:ext cx="684864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Reflective Question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365040" y="1162080"/>
            <a:ext cx="821844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800280" indent="-343080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Lucida Sans Unicode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In your opinion, what are the advantages of representing information through chart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Lucida Sans Unicode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What types of charts are you familiar with? Do you think one particular type of chart is better than the other? Why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.</cp:lastModifiedBy>
  <dcterms:modified xsi:type="dcterms:W3CDTF">2011-03-15T13:40:43Z</dcterms:modified>
  <cp:revision>107</cp:revision>
  <dc:subject/>
  <dc:title>Lesson Outline (Managing AdWords Campaigns)</dc:title>
</cp:coreProperties>
</file>