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02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02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9200" y="38451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6760" y="10605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5960" y="10605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6760" y="38451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5960" y="3845160"/>
            <a:ext cx="2646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02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02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684360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9200" y="38451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200" y="1060560"/>
            <a:ext cx="40111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02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178840" y="6551640"/>
            <a:ext cx="96516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c4c4c4"/>
                </a:solidFill>
                <a:latin typeface="Times New Roman"/>
              </a:rPr>
              <a:t>OV 2 - </a:t>
            </a:r>
            <a:fld id="{7D5C4DE4-5335-40C2-8EAA-59A674B070BB}" type="slidenum">
              <a:rPr b="0" lang="en-GB" sz="800" spc="-1" strike="noStrike">
                <a:solidFill>
                  <a:srgbClr val="c4c4c4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6551640"/>
            <a:ext cx="3641040" cy="236520"/>
            <a:chOff x="0" y="6551640"/>
            <a:chExt cx="3641040" cy="236520"/>
          </a:xfrm>
        </p:grpSpPr>
        <p:sp>
          <p:nvSpPr>
            <p:cNvPr id="3" name="AutoShape 4"/>
            <p:cNvSpPr/>
            <p:nvPr/>
          </p:nvSpPr>
          <p:spPr>
            <a:xfrm>
              <a:off x="0" y="6551640"/>
              <a:ext cx="3638520" cy="236520"/>
            </a:xfrm>
            <a:prstGeom prst="roundRect">
              <a:avLst>
                <a:gd name="adj" fmla="val 6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0" y="6551640"/>
              <a:ext cx="3641040" cy="233280"/>
              <a:chOff x="0" y="6551640"/>
              <a:chExt cx="3641040" cy="23328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0" y="6551640"/>
                <a:ext cx="3635280" cy="233280"/>
              </a:xfrm>
              <a:prstGeom prst="roundRect">
                <a:avLst>
                  <a:gd name="adj" fmla="val 68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Group 7"/>
              <p:cNvGrpSpPr/>
              <p:nvPr/>
            </p:nvGrpSpPr>
            <p:grpSpPr>
              <a:xfrm>
                <a:off x="199080" y="6551640"/>
                <a:ext cx="3441960" cy="231120"/>
                <a:chOff x="199080" y="6551640"/>
                <a:chExt cx="3441960" cy="231120"/>
              </a:xfrm>
            </p:grpSpPr>
            <p:sp>
              <p:nvSpPr>
                <p:cNvPr id="7" name="AutoShape 8"/>
                <p:cNvSpPr/>
                <p:nvPr/>
              </p:nvSpPr>
              <p:spPr>
                <a:xfrm>
                  <a:off x="201600" y="6551640"/>
                  <a:ext cx="3430440" cy="225360"/>
                </a:xfrm>
                <a:prstGeom prst="roundRect">
                  <a:avLst>
                    <a:gd name="adj" fmla="val 704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" name="Group 9"/>
                <p:cNvGrpSpPr/>
                <p:nvPr/>
              </p:nvGrpSpPr>
              <p:grpSpPr>
                <a:xfrm>
                  <a:off x="199080" y="6551640"/>
                  <a:ext cx="3441960" cy="231120"/>
                  <a:chOff x="199080" y="6551640"/>
                  <a:chExt cx="3441960" cy="231120"/>
                </a:xfrm>
              </p:grpSpPr>
              <p:sp>
                <p:nvSpPr>
                  <p:cNvPr id="9" name="AutoShape 10"/>
                  <p:cNvSpPr/>
                  <p:nvPr/>
                </p:nvSpPr>
                <p:spPr>
                  <a:xfrm>
                    <a:off x="201600" y="6551640"/>
                    <a:ext cx="3429000" cy="223920"/>
                  </a:xfrm>
                  <a:prstGeom prst="roundRect">
                    <a:avLst>
                      <a:gd name="adj" fmla="val 71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" name="Group 11"/>
                  <p:cNvGrpSpPr/>
                  <p:nvPr/>
                </p:nvGrpSpPr>
                <p:grpSpPr>
                  <a:xfrm>
                    <a:off x="199080" y="6551640"/>
                    <a:ext cx="3441960" cy="231120"/>
                    <a:chOff x="199080" y="6551640"/>
                    <a:chExt cx="3441960" cy="231120"/>
                  </a:xfrm>
                </p:grpSpPr>
                <p:sp>
                  <p:nvSpPr>
                    <p:cNvPr id="11" name="AutoShape 12"/>
                    <p:cNvSpPr/>
                    <p:nvPr/>
                  </p:nvSpPr>
                  <p:spPr>
                    <a:xfrm>
                      <a:off x="201600" y="6551640"/>
                      <a:ext cx="3427560" cy="223920"/>
                    </a:xfrm>
                    <a:prstGeom prst="roundRect">
                      <a:avLst>
                        <a:gd name="adj" fmla="val 71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" name="AutoShape 13"/>
                    <p:cNvSpPr/>
                    <p:nvPr/>
                  </p:nvSpPr>
                  <p:spPr>
                    <a:xfrm>
                      <a:off x="199080" y="6551640"/>
                      <a:ext cx="3441960" cy="231120"/>
                    </a:xfrm>
                    <a:prstGeom prst="roundRect">
                      <a:avLst>
                        <a:gd name="adj" fmla="val 71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4c4c4"/>
                          </a:solidFill>
                          <a:latin typeface="Times New Roman"/>
                        </a:rPr>
                        <a:t>Copyright © 2011 Element K Content LLC. All rights reserved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02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1600"/>
            <a:ext cx="68486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Organizing Worksheet and Table Data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822492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d Modify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 or Filt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Functions to Calculat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PivotTable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AND and OR Conditions (Cont.)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1635120" y="3535200"/>
            <a:ext cx="60199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OR(E4&gt;F9,D7&lt;A5,M3&gt;G1,B1=“FY 2010”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07840" y="2971800"/>
            <a:ext cx="9853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4822560" y="1234800"/>
            <a:ext cx="184320" cy="4419720"/>
          </a:xfrm>
          <a:custGeom>
            <a:avLst/>
            <a:gdLst>
              <a:gd name="textAreaLeft" fmla="*/ 0 w 184320"/>
              <a:gd name="textAreaRight" fmla="*/ 66600 w 184320"/>
              <a:gd name="textAreaTop" fmla="*/ 57240 h 4419720"/>
              <a:gd name="textAreaBottom" fmla="*/ 436248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899"/>
                </a:cubicBezTo>
                <a:lnTo>
                  <a:pt x="10800" y="9860"/>
                </a:lnTo>
                <a:cubicBezTo>
                  <a:pt x="10800" y="10310"/>
                  <a:pt x="16200" y="10759"/>
                  <a:pt x="21600" y="10759"/>
                </a:cubicBezTo>
                <a:cubicBezTo>
                  <a:pt x="16200" y="10759"/>
                  <a:pt x="10800" y="11209"/>
                  <a:pt x="10800" y="11658"/>
                </a:cubicBezTo>
                <a:lnTo>
                  <a:pt x="10800" y="20701"/>
                </a:lnTo>
                <a:cubicBezTo>
                  <a:pt x="10800" y="2115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80480" y="4038480"/>
            <a:ext cx="9334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di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398680" y="2941200"/>
            <a:ext cx="0" cy="639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3720" y="2832120"/>
            <a:ext cx="12657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on n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3913200" y="3532320"/>
            <a:ext cx="76320" cy="784080"/>
          </a:xfrm>
          <a:custGeom>
            <a:avLst/>
            <a:gdLst>
              <a:gd name="textAreaLeft" fmla="*/ 0 w 76320"/>
              <a:gd name="textAreaRight" fmla="*/ 27360 w 76320"/>
              <a:gd name="textAreaTop" fmla="*/ 10080 h 784080"/>
              <a:gd name="textAreaBottom" fmla="*/ 77400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899"/>
                </a:cubicBezTo>
                <a:lnTo>
                  <a:pt x="10800" y="9867"/>
                </a:lnTo>
                <a:cubicBezTo>
                  <a:pt x="10800" y="10317"/>
                  <a:pt x="16200" y="10766"/>
                  <a:pt x="21600" y="10766"/>
                </a:cubicBezTo>
                <a:cubicBezTo>
                  <a:pt x="16200" y="10766"/>
                  <a:pt x="10800" y="11216"/>
                  <a:pt x="10800" y="11665"/>
                </a:cubicBezTo>
                <a:lnTo>
                  <a:pt x="10800" y="20701"/>
                </a:lnTo>
                <a:cubicBezTo>
                  <a:pt x="10800" y="2115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43560" y="2038320"/>
            <a:ext cx="300024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Subtotal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5029200"/>
            <a:ext cx="206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 Sorted by Reg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15080" y="5029200"/>
            <a:ext cx="22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 with Subtot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543800" y="1842120"/>
            <a:ext cx="407880" cy="1017000"/>
            <a:chOff x="7543800" y="1842120"/>
            <a:chExt cx="407880" cy="1017000"/>
          </a:xfrm>
        </p:grpSpPr>
        <p:sp>
          <p:nvSpPr>
            <p:cNvPr id="145" name=""/>
            <p:cNvSpPr/>
            <p:nvPr/>
          </p:nvSpPr>
          <p:spPr>
            <a:xfrm>
              <a:off x="7941960" y="1842120"/>
              <a:ext cx="0" cy="101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43800" y="2858760"/>
              <a:ext cx="40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543800" y="2832840"/>
            <a:ext cx="407880" cy="788760"/>
            <a:chOff x="7543800" y="2832840"/>
            <a:chExt cx="407880" cy="788760"/>
          </a:xfrm>
        </p:grpSpPr>
        <p:sp>
          <p:nvSpPr>
            <p:cNvPr id="148" name=""/>
            <p:cNvSpPr/>
            <p:nvPr/>
          </p:nvSpPr>
          <p:spPr>
            <a:xfrm>
              <a:off x="7941960" y="2832840"/>
              <a:ext cx="0" cy="78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43800" y="3621240"/>
              <a:ext cx="40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724280" y="1765440"/>
            <a:ext cx="0" cy="49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29280" y="1295280"/>
            <a:ext cx="10000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line symb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88720" y="1536840"/>
            <a:ext cx="8755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tot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219320" y="2743200"/>
            <a:ext cx="219060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457200" y="201600"/>
            <a:ext cx="68468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  <a:ea typeface="Arial"/>
              </a:rPr>
              <a:t>PivotT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1326"/>
          <p:cNvSpPr/>
          <p:nvPr/>
        </p:nvSpPr>
        <p:spPr>
          <a:xfrm>
            <a:off x="5751360" y="1351080"/>
            <a:ext cx="74880" cy="355320"/>
          </a:xfrm>
          <a:custGeom>
            <a:avLst/>
            <a:gdLst>
              <a:gd name="textAreaLeft" fmla="*/ 0 w 74880"/>
              <a:gd name="textAreaRight" fmla="*/ 27000 w 74880"/>
              <a:gd name="textAreaTop" fmla="*/ 13680 h 355320"/>
              <a:gd name="textAreaBottom" fmla="*/ 341640 h 35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60"/>
                  <a:pt x="10800" y="2719"/>
                </a:cubicBezTo>
                <a:lnTo>
                  <a:pt x="10800" y="8081"/>
                </a:lnTo>
                <a:cubicBezTo>
                  <a:pt x="10800" y="9441"/>
                  <a:pt x="16200" y="10800"/>
                  <a:pt x="21600" y="10800"/>
                </a:cubicBezTo>
                <a:cubicBezTo>
                  <a:pt x="16200" y="10800"/>
                  <a:pt x="10800" y="12160"/>
                  <a:pt x="10800" y="13519"/>
                </a:cubicBezTo>
                <a:lnTo>
                  <a:pt x="10800" y="18881"/>
                </a:lnTo>
                <a:cubicBezTo>
                  <a:pt x="10800" y="2024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102"/>
          <p:cNvSpPr/>
          <p:nvPr/>
        </p:nvSpPr>
        <p:spPr>
          <a:xfrm>
            <a:off x="5881680" y="1352520"/>
            <a:ext cx="10447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 fil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1326"/>
          <p:cNvSpPr/>
          <p:nvPr/>
        </p:nvSpPr>
        <p:spPr>
          <a:xfrm flipH="1">
            <a:off x="2398680" y="2811600"/>
            <a:ext cx="101520" cy="609480"/>
          </a:xfrm>
          <a:custGeom>
            <a:avLst/>
            <a:gdLst>
              <a:gd name="textAreaLeft" fmla="*/ 0 w 101520"/>
              <a:gd name="textAreaRight" fmla="*/ 36720 w 101520"/>
              <a:gd name="textAreaTop" fmla="*/ 20880 h 609480"/>
              <a:gd name="textAreaBottom" fmla="*/ 5886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85"/>
                  <a:pt x="10800" y="2369"/>
                </a:cubicBezTo>
                <a:lnTo>
                  <a:pt x="10800" y="8431"/>
                </a:lnTo>
                <a:cubicBezTo>
                  <a:pt x="10800" y="9616"/>
                  <a:pt x="16200" y="10800"/>
                  <a:pt x="21600" y="10800"/>
                </a:cubicBezTo>
                <a:cubicBezTo>
                  <a:pt x="16200" y="10800"/>
                  <a:pt x="10800" y="11985"/>
                  <a:pt x="10800" y="13169"/>
                </a:cubicBezTo>
                <a:lnTo>
                  <a:pt x="10800" y="19231"/>
                </a:lnTo>
                <a:cubicBezTo>
                  <a:pt x="10800" y="2041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1326"/>
          <p:cNvSpPr/>
          <p:nvPr/>
        </p:nvSpPr>
        <p:spPr>
          <a:xfrm>
            <a:off x="5767560" y="1808280"/>
            <a:ext cx="129960" cy="1784160"/>
          </a:xfrm>
          <a:custGeom>
            <a:avLst/>
            <a:gdLst>
              <a:gd name="textAreaLeft" fmla="*/ 0 w 129960"/>
              <a:gd name="textAreaRight" fmla="*/ 46800 w 129960"/>
              <a:gd name="textAreaTop" fmla="*/ 26640 h 1784160"/>
              <a:gd name="textAreaBottom" fmla="*/ 1757520 h 178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22"/>
                  <a:pt x="10800" y="1043"/>
                </a:cubicBezTo>
                <a:lnTo>
                  <a:pt x="10800" y="9757"/>
                </a:lnTo>
                <a:cubicBezTo>
                  <a:pt x="10800" y="10279"/>
                  <a:pt x="16200" y="10800"/>
                  <a:pt x="21600" y="10800"/>
                </a:cubicBezTo>
                <a:cubicBezTo>
                  <a:pt x="16200" y="10800"/>
                  <a:pt x="10800" y="11322"/>
                  <a:pt x="10800" y="11843"/>
                </a:cubicBezTo>
                <a:lnTo>
                  <a:pt x="10800" y="20557"/>
                </a:lnTo>
                <a:cubicBezTo>
                  <a:pt x="10800" y="2107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102"/>
          <p:cNvSpPr/>
          <p:nvPr/>
        </p:nvSpPr>
        <p:spPr>
          <a:xfrm>
            <a:off x="5956920" y="2449440"/>
            <a:ext cx="14288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play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mmarized 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2000" y="1122480"/>
            <a:ext cx="326700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1" name=""/>
          <p:cNvGrpSpPr/>
          <p:nvPr/>
        </p:nvGrpSpPr>
        <p:grpSpPr>
          <a:xfrm>
            <a:off x="1912320" y="3119040"/>
            <a:ext cx="407880" cy="990360"/>
            <a:chOff x="1912320" y="3119040"/>
            <a:chExt cx="407880" cy="990360"/>
          </a:xfrm>
        </p:grpSpPr>
        <p:sp>
          <p:nvSpPr>
            <p:cNvPr id="162" name=""/>
            <p:cNvSpPr/>
            <p:nvPr/>
          </p:nvSpPr>
          <p:spPr>
            <a:xfrm flipV="1">
              <a:off x="1919520" y="311904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912320" y="3119400"/>
              <a:ext cx="40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H="1">
            <a:off x="1904760" y="4119480"/>
            <a:ext cx="723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102"/>
          <p:cNvSpPr/>
          <p:nvPr/>
        </p:nvSpPr>
        <p:spPr>
          <a:xfrm>
            <a:off x="2522520" y="3979800"/>
            <a:ext cx="9442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w fiel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0760" y="4699080"/>
            <a:ext cx="9066240" cy="14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3838680" y="624852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68486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Reflective Questio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378000" y="1162080"/>
            <a:ext cx="821844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800280" indent="-3430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Lucida Sans Unicode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In your opinion, what are the various types of data that can be represented best using tabl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"/>
                <a:ea typeface="Lucida Sans Unicode"/>
              </a:rPr>
              <a:t>2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What do you think are some of the factors that influence the choice of a table sty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046640" cy="438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able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952560" y="392760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7000" y="3657600"/>
            <a:ext cx="6987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w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047000" cy="438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468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able Component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57560" y="3179880"/>
            <a:ext cx="0" cy="630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7848720" y="4122720"/>
            <a:ext cx="542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47600" y="3886200"/>
            <a:ext cx="74772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um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51332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2720" y="4361040"/>
            <a:ext cx="5022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501660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3640" y="4788000"/>
            <a:ext cx="5450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w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75600" y="3129120"/>
            <a:ext cx="74772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lum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0240" y="4216320"/>
            <a:ext cx="152280" cy="53352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75360" y="4251240"/>
            <a:ext cx="740160" cy="45900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n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w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3962520"/>
            <a:ext cx="787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8400" y="3720960"/>
            <a:ext cx="6987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305320" cy="400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1600"/>
            <a:ext cx="68486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Styles and Quick Style Set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005600" y="2971800"/>
            <a:ext cx="65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37240" y="2743200"/>
            <a:ext cx="10144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ick Sty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l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Sorting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1854360" y="251460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orted Li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38760" y="251460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rted Li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89720" y="461016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5105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 Level S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74320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38880" y="31240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876920" y="3048120"/>
            <a:ext cx="1647720" cy="157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52480" y="3048120"/>
            <a:ext cx="1648080" cy="157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876920" y="3200400"/>
            <a:ext cx="1628640" cy="156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Sorting (Cont.)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2082960" y="266688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orted Li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67360" y="266688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rted Li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51400" y="2362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33120" y="2057400"/>
            <a:ext cx="16300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umn A sorted i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phabetical or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3467160"/>
            <a:ext cx="152280" cy="457200"/>
          </a:xfrm>
          <a:custGeom>
            <a:avLst/>
            <a:gdLst>
              <a:gd name="textAreaLeft" fmla="*/ 0 w 152280"/>
              <a:gd name="textAreaRight" fmla="*/ 5508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91680" y="3549600"/>
            <a:ext cx="10022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to 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38440" y="5181480"/>
            <a:ext cx="17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Level S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1647720" cy="15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52640" y="4724280"/>
            <a:ext cx="1628640" cy="5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81360" y="1219320"/>
            <a:ext cx="3267360" cy="42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Filter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2222640" y="347976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filtered Li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60440" y="541008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tered Li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65640" y="3994200"/>
            <a:ext cx="110736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lter cri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3340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1600200"/>
              <a:gd name="textAreaBottom" fmla="*/ 158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95"/>
                  <a:pt x="10800" y="590"/>
                </a:cubicBezTo>
                <a:lnTo>
                  <a:pt x="10800" y="10169"/>
                </a:lnTo>
                <a:cubicBezTo>
                  <a:pt x="10800" y="10464"/>
                  <a:pt x="16200" y="10759"/>
                  <a:pt x="21600" y="10759"/>
                </a:cubicBezTo>
                <a:cubicBezTo>
                  <a:pt x="16200" y="10759"/>
                  <a:pt x="10800" y="11054"/>
                  <a:pt x="10800" y="11349"/>
                </a:cubicBezTo>
                <a:lnTo>
                  <a:pt x="10800" y="21010"/>
                </a:lnTo>
                <a:cubicBezTo>
                  <a:pt x="10800" y="2130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420880" y="4343040"/>
            <a:ext cx="407880" cy="806040"/>
            <a:chOff x="5420880" y="4343040"/>
            <a:chExt cx="407880" cy="806040"/>
          </a:xfrm>
        </p:grpSpPr>
        <p:sp>
          <p:nvSpPr>
            <p:cNvPr id="102" name=""/>
            <p:cNvSpPr/>
            <p:nvPr/>
          </p:nvSpPr>
          <p:spPr>
            <a:xfrm flipV="1">
              <a:off x="5430600" y="4343040"/>
              <a:ext cx="0" cy="80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5420880" y="4343400"/>
              <a:ext cx="40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420880" y="3403440"/>
            <a:ext cx="407880" cy="2461680"/>
            <a:chOff x="5420880" y="3403440"/>
            <a:chExt cx="407880" cy="2461680"/>
          </a:xfrm>
        </p:grpSpPr>
        <p:sp>
          <p:nvSpPr>
            <p:cNvPr id="105" name=""/>
            <p:cNvSpPr/>
            <p:nvPr/>
          </p:nvSpPr>
          <p:spPr>
            <a:xfrm flipV="1">
              <a:off x="5430600" y="3403440"/>
              <a:ext cx="0" cy="246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420880" y="3403440"/>
              <a:ext cx="40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rot="10800000">
            <a:off x="1841040" y="4832280"/>
            <a:ext cx="95400" cy="457200"/>
          </a:xfrm>
          <a:custGeom>
            <a:avLst/>
            <a:gdLst>
              <a:gd name="textAreaLeft" fmla="*/ 0 w 95400"/>
              <a:gd name="textAreaRight" fmla="*/ 34560 w 95400"/>
              <a:gd name="textAreaTop" fmla="*/ 3600 h 457200"/>
              <a:gd name="textAreaBottom" fmla="*/ 4536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95"/>
                  <a:pt x="10800" y="590"/>
                </a:cubicBezTo>
                <a:lnTo>
                  <a:pt x="10800" y="10169"/>
                </a:lnTo>
                <a:cubicBezTo>
                  <a:pt x="10800" y="10464"/>
                  <a:pt x="16200" y="10759"/>
                  <a:pt x="21600" y="10759"/>
                </a:cubicBezTo>
                <a:cubicBezTo>
                  <a:pt x="16200" y="10759"/>
                  <a:pt x="10800" y="11054"/>
                  <a:pt x="10800" y="11349"/>
                </a:cubicBezTo>
                <a:lnTo>
                  <a:pt x="10800" y="21010"/>
                </a:lnTo>
                <a:cubicBezTo>
                  <a:pt x="10800" y="2130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08320" y="5791320"/>
            <a:ext cx="8528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teri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5960" y="4648320"/>
            <a:ext cx="1080000" cy="82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ws no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eting th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teri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e hidd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133720" y="1676520"/>
            <a:ext cx="1628640" cy="156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Database Functio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30640"/>
            <a:ext cx="510516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DAVERAGE(B1:C17,2,I1:12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1520" y="2703600"/>
            <a:ext cx="9853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53080" y="3782880"/>
            <a:ext cx="12657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on n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3514320" y="2903400"/>
            <a:ext cx="133200" cy="1523880"/>
          </a:xfrm>
          <a:custGeom>
            <a:avLst/>
            <a:gdLst>
              <a:gd name="textAreaLeft" fmla="*/ 0 w 133200"/>
              <a:gd name="textAreaRight" fmla="*/ 47880 w 133200"/>
              <a:gd name="textAreaTop" fmla="*/ 29520 h 1523880"/>
              <a:gd name="textAreaBottom" fmla="*/ 14943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75"/>
                  <a:pt x="10800" y="1350"/>
                </a:cubicBezTo>
                <a:lnTo>
                  <a:pt x="10800" y="9337"/>
                </a:lnTo>
                <a:cubicBezTo>
                  <a:pt x="10800" y="10012"/>
                  <a:pt x="16200" y="10687"/>
                  <a:pt x="21600" y="10687"/>
                </a:cubicBezTo>
                <a:cubicBezTo>
                  <a:pt x="16200" y="10687"/>
                  <a:pt x="10800" y="11362"/>
                  <a:pt x="10800" y="12037"/>
                </a:cubicBezTo>
                <a:lnTo>
                  <a:pt x="10800" y="20250"/>
                </a:lnTo>
                <a:cubicBezTo>
                  <a:pt x="10800" y="2092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5279760" y="2280960"/>
            <a:ext cx="184320" cy="1752840"/>
          </a:xfrm>
          <a:custGeom>
            <a:avLst/>
            <a:gdLst>
              <a:gd name="textAreaLeft" fmla="*/ 0 w 184320"/>
              <a:gd name="textAreaRight" fmla="*/ 66600 w 184320"/>
              <a:gd name="textAreaTop" fmla="*/ 22680 h 1752840"/>
              <a:gd name="textAreaBottom" fmla="*/ 173016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899"/>
                </a:cubicBezTo>
                <a:lnTo>
                  <a:pt x="10800" y="9860"/>
                </a:lnTo>
                <a:cubicBezTo>
                  <a:pt x="10800" y="10310"/>
                  <a:pt x="16200" y="10759"/>
                  <a:pt x="21600" y="10759"/>
                </a:cubicBezTo>
                <a:cubicBezTo>
                  <a:pt x="16200" y="10759"/>
                  <a:pt x="10800" y="11209"/>
                  <a:pt x="10800" y="11658"/>
                </a:cubicBezTo>
                <a:lnTo>
                  <a:pt x="10800" y="20701"/>
                </a:lnTo>
                <a:cubicBezTo>
                  <a:pt x="10800" y="2115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4845240" y="3249720"/>
            <a:ext cx="164880" cy="838080"/>
          </a:xfrm>
          <a:custGeom>
            <a:avLst/>
            <a:gdLst>
              <a:gd name="textAreaLeft" fmla="*/ 0 w 164880"/>
              <a:gd name="textAreaRight" fmla="*/ 59400 w 164880"/>
              <a:gd name="textAreaTop" fmla="*/ 10800 h 838080"/>
              <a:gd name="textAreaBottom" fmla="*/ 8272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899"/>
                </a:cubicBezTo>
                <a:lnTo>
                  <a:pt x="10800" y="9860"/>
                </a:lnTo>
                <a:cubicBezTo>
                  <a:pt x="10800" y="10310"/>
                  <a:pt x="16200" y="10759"/>
                  <a:pt x="21600" y="10759"/>
                </a:cubicBezTo>
                <a:cubicBezTo>
                  <a:pt x="16200" y="10759"/>
                  <a:pt x="10800" y="11209"/>
                  <a:pt x="10800" y="11658"/>
                </a:cubicBezTo>
                <a:lnTo>
                  <a:pt x="10800" y="20701"/>
                </a:lnTo>
                <a:cubicBezTo>
                  <a:pt x="10800" y="2115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99640" y="3786120"/>
            <a:ext cx="8604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486040" y="4649760"/>
            <a:ext cx="407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99000" y="3581280"/>
            <a:ext cx="0" cy="1084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4720" y="4500720"/>
            <a:ext cx="5374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5873400" y="3363840"/>
            <a:ext cx="164880" cy="609480"/>
          </a:xfrm>
          <a:custGeom>
            <a:avLst/>
            <a:gdLst>
              <a:gd name="textAreaLeft" fmla="*/ 0 w 164880"/>
              <a:gd name="textAreaRight" fmla="*/ 59400 w 164880"/>
              <a:gd name="textAreaTop" fmla="*/ 7920 h 609480"/>
              <a:gd name="textAreaBottom" fmla="*/ 601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899"/>
                </a:cubicBezTo>
                <a:lnTo>
                  <a:pt x="10800" y="9860"/>
                </a:lnTo>
                <a:cubicBezTo>
                  <a:pt x="10800" y="10310"/>
                  <a:pt x="16200" y="10759"/>
                  <a:pt x="21600" y="10759"/>
                </a:cubicBezTo>
                <a:cubicBezTo>
                  <a:pt x="16200" y="10759"/>
                  <a:pt x="10800" y="11209"/>
                  <a:pt x="10800" y="11658"/>
                </a:cubicBezTo>
                <a:lnTo>
                  <a:pt x="10800" y="20701"/>
                </a:lnTo>
                <a:cubicBezTo>
                  <a:pt x="10800" y="2115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07360" y="3795840"/>
            <a:ext cx="7156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43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 Black"/>
              </a:rPr>
              <a:t>AND and OR Conditio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3535200"/>
            <a:ext cx="601956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AND(E4&gt;F9,D7&lt;A5,M3&gt;G1,B1=“FY 2010”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09200" y="2997360"/>
            <a:ext cx="9853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8960" y="4000680"/>
            <a:ext cx="9334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di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4724280" y="1260000"/>
            <a:ext cx="183960" cy="4419360"/>
          </a:xfrm>
          <a:custGeom>
            <a:avLst/>
            <a:gdLst>
              <a:gd name="textAreaLeft" fmla="*/ 0 w 183960"/>
              <a:gd name="textAreaRight" fmla="*/ 66240 w 183960"/>
              <a:gd name="textAreaTop" fmla="*/ 57240 h 4419360"/>
              <a:gd name="textAreaBottom" fmla="*/ 4362120 h 441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899"/>
                </a:cubicBezTo>
                <a:lnTo>
                  <a:pt x="10800" y="9860"/>
                </a:lnTo>
                <a:cubicBezTo>
                  <a:pt x="10800" y="10310"/>
                  <a:pt x="16200" y="10759"/>
                  <a:pt x="21600" y="10759"/>
                </a:cubicBezTo>
                <a:cubicBezTo>
                  <a:pt x="16200" y="10759"/>
                  <a:pt x="10800" y="11209"/>
                  <a:pt x="10800" y="11658"/>
                </a:cubicBezTo>
                <a:lnTo>
                  <a:pt x="10800" y="20701"/>
                </a:lnTo>
                <a:cubicBezTo>
                  <a:pt x="10800" y="2115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3810960" y="3531960"/>
            <a:ext cx="76320" cy="784440"/>
          </a:xfrm>
          <a:custGeom>
            <a:avLst/>
            <a:gdLst>
              <a:gd name="textAreaLeft" fmla="*/ 0 w 76320"/>
              <a:gd name="textAreaRight" fmla="*/ 27360 w 76320"/>
              <a:gd name="textAreaTop" fmla="*/ 10080 h 784440"/>
              <a:gd name="textAreaBottom" fmla="*/ 774360 h 78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899"/>
                </a:cubicBezTo>
                <a:lnTo>
                  <a:pt x="10800" y="9867"/>
                </a:lnTo>
                <a:cubicBezTo>
                  <a:pt x="10800" y="10317"/>
                  <a:pt x="16200" y="10766"/>
                  <a:pt x="21600" y="10766"/>
                </a:cubicBezTo>
                <a:cubicBezTo>
                  <a:pt x="16200" y="10766"/>
                  <a:pt x="10800" y="11216"/>
                  <a:pt x="10800" y="11665"/>
                </a:cubicBezTo>
                <a:lnTo>
                  <a:pt x="10800" y="20701"/>
                </a:lnTo>
                <a:cubicBezTo>
                  <a:pt x="10800" y="2115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189160" y="2941200"/>
            <a:ext cx="0" cy="639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64200" y="2832120"/>
            <a:ext cx="12657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on n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Software Manager</cp:lastModifiedBy>
  <dcterms:modified xsi:type="dcterms:W3CDTF">2011-03-15T14:59:52Z</dcterms:modified>
  <cp:revision>206</cp:revision>
  <dc:subject/>
  <dc:title>Lesson Outline (Managing AdWords Campaigns)</dc:title>
</cp:coreProperties>
</file>