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67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59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67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59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436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OV 1 - </a:t>
            </a:r>
            <a:fld id="{E4450C59-F3D9-45B4-BA58-3A6C677A2030}" type="slidenum"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6551640"/>
            <a:ext cx="3641040" cy="236520"/>
            <a:chOff x="0" y="6551640"/>
            <a:chExt cx="3641040" cy="23652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6551640"/>
              <a:ext cx="3641040" cy="233280"/>
              <a:chOff x="0" y="6551640"/>
              <a:chExt cx="3641040" cy="23328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199080" y="6551640"/>
                <a:ext cx="3441960" cy="231120"/>
                <a:chOff x="199080" y="6551640"/>
                <a:chExt cx="3441960" cy="2311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201600" y="6551640"/>
                  <a:ext cx="3430440" cy="225360"/>
                </a:xfrm>
                <a:prstGeom prst="roundRect">
                  <a:avLst>
                    <a:gd name="adj" fmla="val 70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Group 9"/>
                <p:cNvGrpSpPr/>
                <p:nvPr/>
              </p:nvGrpSpPr>
              <p:grpSpPr>
                <a:xfrm>
                  <a:off x="199080" y="6551640"/>
                  <a:ext cx="3441960" cy="231120"/>
                  <a:chOff x="199080" y="6551640"/>
                  <a:chExt cx="3441960" cy="231120"/>
                </a:xfrm>
              </p:grpSpPr>
              <p:sp>
                <p:nvSpPr>
                  <p:cNvPr id="9" name="AutoShape 10"/>
                  <p:cNvSpPr/>
                  <p:nvPr/>
                </p:nvSpPr>
                <p:spPr>
                  <a:xfrm>
                    <a:off x="201600" y="6551640"/>
                    <a:ext cx="3429000" cy="223920"/>
                  </a:xfrm>
                  <a:prstGeom prst="roundRect">
                    <a:avLst>
                      <a:gd name="adj" fmla="val 7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" name="Group 11"/>
                  <p:cNvGrpSpPr/>
                  <p:nvPr/>
                </p:nvGrpSpPr>
                <p:grpSpPr>
                  <a:xfrm>
                    <a:off x="199080" y="6551640"/>
                    <a:ext cx="3441960" cy="231120"/>
                    <a:chOff x="199080" y="6551640"/>
                    <a:chExt cx="3441960" cy="231120"/>
                  </a:xfrm>
                </p:grpSpPr>
                <p:sp>
                  <p:nvSpPr>
                    <p:cNvPr id="11" name="AutoShape 12"/>
                    <p:cNvSpPr/>
                    <p:nvPr/>
                  </p:nvSpPr>
                  <p:spPr>
                    <a:xfrm>
                      <a:off x="201600" y="6551640"/>
                      <a:ext cx="3427560" cy="2239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AutoShape 13"/>
                    <p:cNvSpPr/>
                    <p:nvPr/>
                  </p:nvSpPr>
                  <p:spPr>
                    <a:xfrm>
                      <a:off x="199080" y="6551640"/>
                      <a:ext cx="3441960" cy="2311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4c4c4"/>
                          </a:solidFill>
                          <a:latin typeface="Times New Roman"/>
                        </a:rPr>
                        <a:t>Copyright © 2011 Element K Content LLC. All rights reserve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alculating Data with Advanced Formula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2492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Cell and Range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Data Across Work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iz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ata with Logical and Lookup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21040" y="1676520"/>
            <a:ext cx="704664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Range Nam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4131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819520"/>
            <a:ext cx="1600200" cy="13716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 nam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Enter a name for a cell range, or select a named range from the list Bo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84640" y="47624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7880" y="5151600"/>
            <a:ext cx="12690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lected r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4700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Three-Dimensional Cell Referenc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521440" y="6037200"/>
            <a:ext cx="22593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sheets in the workboo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5280" y="3479760"/>
            <a:ext cx="1581120" cy="459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ree-dimensio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ll refer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463640" y="2152440"/>
            <a:ext cx="279360" cy="2374920"/>
          </a:xfrm>
          <a:custGeom>
            <a:avLst/>
            <a:gdLst>
              <a:gd name="textAreaLeft" fmla="*/ 0 w 279360"/>
              <a:gd name="textAreaRight" fmla="*/ 100800 w 279360"/>
              <a:gd name="textAreaTop" fmla="*/ 33480 h 2374920"/>
              <a:gd name="textAreaBottom" fmla="*/ 234144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1"/>
                </a:cubicBezTo>
                <a:lnTo>
                  <a:pt x="10800" y="9819"/>
                </a:lnTo>
                <a:cubicBezTo>
                  <a:pt x="10800" y="10310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1"/>
                </a:cubicBezTo>
                <a:lnTo>
                  <a:pt x="10800" y="20619"/>
                </a:lnTo>
                <a:cubicBezTo>
                  <a:pt x="10800" y="211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3466440" y="453384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The Function Syntax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949400" y="3365640"/>
            <a:ext cx="51055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IF(B12&gt;=77%,"ABOVE","BELOW"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45360" y="2489040"/>
            <a:ext cx="21070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uments in parenthe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453560" y="1146600"/>
            <a:ext cx="490680" cy="3962520"/>
          </a:xfrm>
          <a:custGeom>
            <a:avLst/>
            <a:gdLst>
              <a:gd name="textAreaLeft" fmla="*/ 0 w 490680"/>
              <a:gd name="textAreaRight" fmla="*/ 177120 w 4906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37339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86320" y="4191120"/>
            <a:ext cx="1265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84880" y="37465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38960" y="4191120"/>
            <a:ext cx="14976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ch arg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Logical Func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133720" y="2371680"/>
            <a:ext cx="51051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IF(B3&gt;=10000,"ABOVE","BELOW"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46400" y="1828800"/>
            <a:ext cx="715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400200" y="165060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1840" y="27050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86040" y="3029040"/>
            <a:ext cx="13586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cal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2880" y="3003480"/>
            <a:ext cx="511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4846320" y="2338200"/>
            <a:ext cx="190440" cy="1038240"/>
          </a:xfrm>
          <a:custGeom>
            <a:avLst/>
            <a:gdLst>
              <a:gd name="textAreaLeft" fmla="*/ 0 w 190440"/>
              <a:gd name="textAreaRight" fmla="*/ 68760 w 190440"/>
              <a:gd name="textAreaTop" fmla="*/ 27000 h 1038240"/>
              <a:gd name="textAreaBottom" fmla="*/ 101124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6217920" y="2300040"/>
            <a:ext cx="190440" cy="1038240"/>
          </a:xfrm>
          <a:custGeom>
            <a:avLst/>
            <a:gdLst>
              <a:gd name="textAreaLeft" fmla="*/ 0 w 190440"/>
              <a:gd name="textAreaRight" fmla="*/ 68760 w 190440"/>
              <a:gd name="textAreaTop" fmla="*/ 27000 h 1038240"/>
              <a:gd name="textAreaBottom" fmla="*/ 101124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4960" y="3288600"/>
            <a:ext cx="0" cy="10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30960" y="3286080"/>
            <a:ext cx="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699080" y="452124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698720" y="438480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24600" y="2982960"/>
            <a:ext cx="5724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1604880" cy="13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52720" cy="30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VLOOKUP and HLOOKUP Func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523880" y="1752480"/>
            <a:ext cx="63248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VLOOKUP(B14,A2:F11,MATCH(B13,A2:F2)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5700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55880" y="212976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2840" y="2324160"/>
            <a:ext cx="9961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to 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rot="5400000">
            <a:off x="4340160" y="1300680"/>
            <a:ext cx="208080" cy="762120"/>
          </a:xfrm>
          <a:custGeom>
            <a:avLst/>
            <a:gdLst>
              <a:gd name="textAreaLeft" fmla="*/ 360 w 208080"/>
              <a:gd name="textAreaRight" fmla="*/ 75600 w 2080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56680" y="1193760"/>
            <a:ext cx="1189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up r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6065640" y="1122120"/>
            <a:ext cx="289080" cy="2362320"/>
          </a:xfrm>
          <a:custGeom>
            <a:avLst/>
            <a:gdLst>
              <a:gd name="textAreaLeft" fmla="*/ 0 w 289080"/>
              <a:gd name="textAreaRight" fmla="*/ 104400 w 2890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23040" y="2476440"/>
            <a:ext cx="3288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 function for identifying the colum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VLOOKUP and HLOOKUP Functions (Cont.)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5700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9920" y="212976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6520" y="2324160"/>
            <a:ext cx="9961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to 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5400000">
            <a:off x="4264200" y="1313280"/>
            <a:ext cx="207720" cy="762120"/>
          </a:xfrm>
          <a:custGeom>
            <a:avLst/>
            <a:gdLst>
              <a:gd name="textAreaLeft" fmla="*/ -360 w 207720"/>
              <a:gd name="textAreaRight" fmla="*/ 74520 w 2077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360" y="1206360"/>
            <a:ext cx="1189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up r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065280" y="1045800"/>
            <a:ext cx="289080" cy="2514600"/>
          </a:xfrm>
          <a:custGeom>
            <a:avLst/>
            <a:gdLst>
              <a:gd name="textAreaLeft" fmla="*/ 0 w 289080"/>
              <a:gd name="textAreaRight" fmla="*/ 104400 w 2890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83520" y="2476440"/>
            <a:ext cx="30168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 function for identifying the 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523880" y="1768320"/>
            <a:ext cx="63248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HLOOKUP(B13,A2:F11,MATCH(B14,A2:A11)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52720" cy="30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6848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78000" y="1162080"/>
            <a:ext cx="8218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types of advanced calculations have you encountered either on the job or personall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factors will influence the choice of a range n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.</cp:lastModifiedBy>
  <dcterms:modified xsi:type="dcterms:W3CDTF">2011-03-15T13:41:07Z</dcterms:modified>
  <cp:revision>128</cp:revision>
  <dc:subject/>
  <dc:title>Lesson Outline (Managing AdWords Campaigns)</dc:title>
</cp:coreProperties>
</file>