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9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676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596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676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596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68436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9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178840" y="6551640"/>
            <a:ext cx="96516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c4c4c4"/>
                </a:solidFill>
                <a:latin typeface="Times New Roman"/>
              </a:rPr>
              <a:t>OV 4 - </a:t>
            </a:r>
            <a:fld id="{6F3C2211-BCDD-4311-B807-A0EE804EDD0C}" type="slidenum">
              <a:rPr b="0" lang="en-GB" sz="800" spc="-1" strike="noStrike">
                <a:solidFill>
                  <a:srgbClr val="c4c4c4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6551640"/>
            <a:ext cx="3641040" cy="236520"/>
            <a:chOff x="0" y="6551640"/>
            <a:chExt cx="3641040" cy="236520"/>
          </a:xfrm>
        </p:grpSpPr>
        <p:sp>
          <p:nvSpPr>
            <p:cNvPr id="3" name="AutoShape 4"/>
            <p:cNvSpPr/>
            <p:nvPr/>
          </p:nvSpPr>
          <p:spPr>
            <a:xfrm>
              <a:off x="0" y="6551640"/>
              <a:ext cx="3638520" cy="23652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0" y="6551640"/>
              <a:ext cx="3641040" cy="233280"/>
              <a:chOff x="0" y="6551640"/>
              <a:chExt cx="3641040" cy="23328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0" y="6551640"/>
                <a:ext cx="3635280" cy="233280"/>
              </a:xfrm>
              <a:prstGeom prst="roundRect">
                <a:avLst>
                  <a:gd name="adj" fmla="val 68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Group 7"/>
              <p:cNvGrpSpPr/>
              <p:nvPr/>
            </p:nvGrpSpPr>
            <p:grpSpPr>
              <a:xfrm>
                <a:off x="199080" y="6551640"/>
                <a:ext cx="3441960" cy="231120"/>
                <a:chOff x="199080" y="6551640"/>
                <a:chExt cx="3441960" cy="231120"/>
              </a:xfrm>
            </p:grpSpPr>
            <p:sp>
              <p:nvSpPr>
                <p:cNvPr id="7" name="AutoShape 8"/>
                <p:cNvSpPr/>
                <p:nvPr/>
              </p:nvSpPr>
              <p:spPr>
                <a:xfrm>
                  <a:off x="201600" y="6551640"/>
                  <a:ext cx="3430440" cy="225360"/>
                </a:xfrm>
                <a:prstGeom prst="roundRect">
                  <a:avLst>
                    <a:gd name="adj" fmla="val 704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Group 9"/>
                <p:cNvGrpSpPr/>
                <p:nvPr/>
              </p:nvGrpSpPr>
              <p:grpSpPr>
                <a:xfrm>
                  <a:off x="199080" y="6551640"/>
                  <a:ext cx="3441960" cy="231120"/>
                  <a:chOff x="199080" y="6551640"/>
                  <a:chExt cx="3441960" cy="231120"/>
                </a:xfrm>
              </p:grpSpPr>
              <p:sp>
                <p:nvSpPr>
                  <p:cNvPr id="9" name="AutoShape 10"/>
                  <p:cNvSpPr/>
                  <p:nvPr/>
                </p:nvSpPr>
                <p:spPr>
                  <a:xfrm>
                    <a:off x="201600" y="6551640"/>
                    <a:ext cx="3429000" cy="223920"/>
                  </a:xfrm>
                  <a:prstGeom prst="roundRect">
                    <a:avLst>
                      <a:gd name="adj" fmla="val 71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" name="Group 11"/>
                  <p:cNvGrpSpPr/>
                  <p:nvPr/>
                </p:nvGrpSpPr>
                <p:grpSpPr>
                  <a:xfrm>
                    <a:off x="199080" y="6551640"/>
                    <a:ext cx="3441960" cy="231120"/>
                    <a:chOff x="199080" y="6551640"/>
                    <a:chExt cx="3441960" cy="231120"/>
                  </a:xfrm>
                </p:grpSpPr>
                <p:sp>
                  <p:nvSpPr>
                    <p:cNvPr id="11" name="AutoShape 12"/>
                    <p:cNvSpPr/>
                    <p:nvPr/>
                  </p:nvSpPr>
                  <p:spPr>
                    <a:xfrm>
                      <a:off x="201600" y="6551640"/>
                      <a:ext cx="3427560" cy="223920"/>
                    </a:xfrm>
                    <a:prstGeom prst="roundRect">
                      <a:avLst>
                        <a:gd name="adj" fmla="val 71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" name="AutoShape 13"/>
                    <p:cNvSpPr/>
                    <p:nvPr/>
                  </p:nvSpPr>
                  <p:spPr>
                    <a:xfrm>
                      <a:off x="199080" y="6551640"/>
                      <a:ext cx="3441960" cy="231120"/>
                    </a:xfrm>
                    <a:prstGeom prst="roundRect">
                      <a:avLst>
                        <a:gd name="adj" fmla="val 71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4c4c4"/>
                          </a:solidFill>
                          <a:latin typeface="Times New Roman"/>
                        </a:rPr>
                        <a:t>Copyright © 2011 Element K Content LLC. All rights reserved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6848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Inserting Graphic Objec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22492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and Modify Pictures and Clip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w and Modify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e Workflow Using SmartArt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and Group Graphic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30320" y="2362320"/>
            <a:ext cx="7199280" cy="248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Graphic Objec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901840" y="328932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13680" y="3060720"/>
            <a:ext cx="672840" cy="459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130720" y="1854360"/>
            <a:ext cx="408240" cy="685440"/>
            <a:chOff x="5130720" y="1854360"/>
            <a:chExt cx="408240" cy="685440"/>
          </a:xfrm>
        </p:grpSpPr>
        <p:sp>
          <p:nvSpPr>
            <p:cNvPr id="58" name=""/>
            <p:cNvSpPr/>
            <p:nvPr/>
          </p:nvSpPr>
          <p:spPr>
            <a:xfrm flipH="1">
              <a:off x="5130720" y="1869840"/>
              <a:ext cx="40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5130720" y="18543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150440" y="1860480"/>
            <a:ext cx="408600" cy="914400"/>
            <a:chOff x="4150440" y="1860480"/>
            <a:chExt cx="408600" cy="914400"/>
          </a:xfrm>
        </p:grpSpPr>
        <p:sp>
          <p:nvSpPr>
            <p:cNvPr id="61" name=""/>
            <p:cNvSpPr/>
            <p:nvPr/>
          </p:nvSpPr>
          <p:spPr>
            <a:xfrm>
              <a:off x="4150440" y="1871640"/>
              <a:ext cx="40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559040" y="18604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287320" y="1701720"/>
            <a:ext cx="13327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ation ha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78120" y="1727280"/>
            <a:ext cx="15537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justment ha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129280" y="380952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73440" y="40381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1440" y="4191120"/>
            <a:ext cx="1250640" cy="459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Select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40920" y="4648320"/>
            <a:ext cx="12506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phic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Not select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6960960" cy="2686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199280" cy="24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Shap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3238560" y="456840"/>
            <a:ext cx="457200" cy="3276720"/>
          </a:xfrm>
          <a:custGeom>
            <a:avLst/>
            <a:gdLst>
              <a:gd name="textAreaLeft" fmla="*/ 0 w 457200"/>
              <a:gd name="textAreaRight" fmla="*/ 164880 w 457200"/>
              <a:gd name="textAreaTop" fmla="*/ 32040 h 3276720"/>
              <a:gd name="textAreaBottom" fmla="*/ 324468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0"/>
                  <a:pt x="10800" y="680"/>
                </a:cubicBezTo>
                <a:lnTo>
                  <a:pt x="10800" y="10120"/>
                </a:lnTo>
                <a:cubicBezTo>
                  <a:pt x="10800" y="10460"/>
                  <a:pt x="16200" y="10800"/>
                  <a:pt x="21600" y="10800"/>
                </a:cubicBezTo>
                <a:cubicBezTo>
                  <a:pt x="16200" y="10800"/>
                  <a:pt x="10800" y="11140"/>
                  <a:pt x="10800" y="11480"/>
                </a:cubicBezTo>
                <a:lnTo>
                  <a:pt x="10800" y="20920"/>
                </a:lnTo>
                <a:cubicBezTo>
                  <a:pt x="10800" y="2126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11160" y="1600200"/>
            <a:ext cx="14958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ted sha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473600" y="272556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69160" y="2573280"/>
            <a:ext cx="129492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lected sha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935760" y="3096360"/>
            <a:ext cx="773280" cy="407880"/>
            <a:chOff x="6935760" y="3096360"/>
            <a:chExt cx="773280" cy="407880"/>
          </a:xfrm>
        </p:grpSpPr>
        <p:sp>
          <p:nvSpPr>
            <p:cNvPr id="77" name=""/>
            <p:cNvSpPr/>
            <p:nvPr/>
          </p:nvSpPr>
          <p:spPr>
            <a:xfrm flipH="1">
              <a:off x="6935760" y="3497040"/>
              <a:ext cx="77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35760" y="3096360"/>
              <a:ext cx="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7378920" y="3373560"/>
            <a:ext cx="125964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ape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rot="16200000">
            <a:off x="3504240" y="1892880"/>
            <a:ext cx="344520" cy="4330800"/>
          </a:xfrm>
          <a:custGeom>
            <a:avLst/>
            <a:gdLst>
              <a:gd name="textAreaLeft" fmla="*/ 0 w 344520"/>
              <a:gd name="textAreaRight" fmla="*/ 124200 w 344520"/>
              <a:gd name="textAreaTop" fmla="*/ 63000 h 4330800"/>
              <a:gd name="textAreaBottom" fmla="*/ 4267800 h 433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00600" y="4317840"/>
            <a:ext cx="13284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ized sha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33440" y="2057400"/>
            <a:ext cx="582948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68486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SmartArt Graphic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03800" y="783720"/>
            <a:ext cx="260280" cy="2743200"/>
          </a:xfrm>
          <a:custGeom>
            <a:avLst/>
            <a:gdLst>
              <a:gd name="textAreaLeft" fmla="*/ 0 w 260280"/>
              <a:gd name="textAreaRight" fmla="*/ 93960 w 2602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3320" y="1687680"/>
            <a:ext cx="109656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23960" y="2247840"/>
            <a:ext cx="380880" cy="1905120"/>
          </a:xfrm>
          <a:custGeom>
            <a:avLst/>
            <a:gdLst>
              <a:gd name="textAreaLeft" fmla="*/ 0 w 380880"/>
              <a:gd name="textAreaRight" fmla="*/ 137520 w 3808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1320" y="3040200"/>
            <a:ext cx="45216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rot="16200000">
            <a:off x="4456800" y="2934360"/>
            <a:ext cx="306360" cy="4648320"/>
          </a:xfrm>
          <a:custGeom>
            <a:avLst/>
            <a:gdLst>
              <a:gd name="textAreaLeft" fmla="*/ 0 w 306360"/>
              <a:gd name="textAreaRight" fmla="*/ 110520 w 306360"/>
              <a:gd name="textAreaTop" fmla="*/ 81360 h 4648320"/>
              <a:gd name="textAreaBottom" fmla="*/ 45669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4"/>
                  <a:pt x="10800" y="1208"/>
                </a:cubicBezTo>
                <a:lnTo>
                  <a:pt x="10800" y="9592"/>
                </a:lnTo>
                <a:cubicBezTo>
                  <a:pt x="10800" y="10196"/>
                  <a:pt x="16200" y="10800"/>
                  <a:pt x="21600" y="10800"/>
                </a:cubicBezTo>
                <a:cubicBezTo>
                  <a:pt x="16200" y="10800"/>
                  <a:pt x="10800" y="11404"/>
                  <a:pt x="10800" y="12008"/>
                </a:cubicBezTo>
                <a:lnTo>
                  <a:pt x="10800" y="20392"/>
                </a:lnTo>
                <a:cubicBezTo>
                  <a:pt x="10800" y="2099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36120" y="5435640"/>
            <a:ext cx="77652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3323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Layering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78400" y="1799640"/>
            <a:ext cx="407880" cy="943560"/>
            <a:chOff x="3578400" y="1799640"/>
            <a:chExt cx="407880" cy="943560"/>
          </a:xfrm>
        </p:grpSpPr>
        <p:sp>
          <p:nvSpPr>
            <p:cNvPr id="93" name=""/>
            <p:cNvSpPr/>
            <p:nvPr/>
          </p:nvSpPr>
          <p:spPr>
            <a:xfrm>
              <a:off x="3978360" y="1799640"/>
              <a:ext cx="0" cy="94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78400" y="2743200"/>
              <a:ext cx="40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9880" y="1527120"/>
            <a:ext cx="10645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97240" y="288612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67880" y="2720880"/>
            <a:ext cx="94716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ck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86160" y="3706920"/>
            <a:ext cx="71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3110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83360" y="3556080"/>
            <a:ext cx="9702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nt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19360" y="4724280"/>
            <a:ext cx="0" cy="735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53640" y="5334120"/>
            <a:ext cx="15552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nt layer opaq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11800" y="4762440"/>
            <a:ext cx="0" cy="735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04600" y="5372280"/>
            <a:ext cx="18525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nt layer trans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875200" y="1796400"/>
            <a:ext cx="407880" cy="943560"/>
            <a:chOff x="5875200" y="1796400"/>
            <a:chExt cx="407880" cy="943560"/>
          </a:xfrm>
        </p:grpSpPr>
        <p:sp>
          <p:nvSpPr>
            <p:cNvPr id="106" name=""/>
            <p:cNvSpPr/>
            <p:nvPr/>
          </p:nvSpPr>
          <p:spPr>
            <a:xfrm>
              <a:off x="6275160" y="1796400"/>
              <a:ext cx="0" cy="94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75200" y="2739960"/>
              <a:ext cx="40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798160" y="1523880"/>
            <a:ext cx="9702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nt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527880" y="305604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5120" y="2916360"/>
            <a:ext cx="106452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ddle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866920" y="3378960"/>
            <a:ext cx="1523160" cy="456840"/>
            <a:chOff x="5866920" y="3378960"/>
            <a:chExt cx="1523160" cy="456840"/>
          </a:xfrm>
        </p:grpSpPr>
        <p:sp>
          <p:nvSpPr>
            <p:cNvPr id="112" name=""/>
            <p:cNvSpPr/>
            <p:nvPr/>
          </p:nvSpPr>
          <p:spPr>
            <a:xfrm flipH="1">
              <a:off x="5866920" y="3825000"/>
              <a:ext cx="152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7280" y="337896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289280" y="3662280"/>
            <a:ext cx="94716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ck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446880" cy="17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Grouping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200040" y="320040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03320" y="4241880"/>
            <a:ext cx="10861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group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6324480" y="312408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66720" y="4241880"/>
            <a:ext cx="8161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p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68486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66560" y="1162080"/>
            <a:ext cx="82188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00280" indent="-3430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Lucida Sans Unicode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What graphic elements would you include on the first worksheet of your company's annual sales repor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Lucida Sans Unicode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What is the purpose of inserting graphical elements in a worksheet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.</cp:lastModifiedBy>
  <dcterms:modified xsi:type="dcterms:W3CDTF">2011-03-15T13:40:19Z</dcterms:modified>
  <cp:revision>122</cp:revision>
  <dc:subject/>
  <dc:title>Lesson Outline (Managing AdWords Campaigns)</dc:title>
</cp:coreProperties>
</file>