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owerPoint Backgrou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360" y="6551640"/>
            <a:ext cx="364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c4c4"/>
                </a:solidFill>
                <a:latin typeface="Arial"/>
              </a:rPr>
              <a:t>Copyright © 2011 Element K Content LL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3"/>
          <p:cNvSpPr/>
          <p:nvPr/>
        </p:nvSpPr>
        <p:spPr>
          <a:xfrm>
            <a:off x="528480" y="1515960"/>
            <a:ext cx="81583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Data with Advanced Formu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ing Worksheet and Tab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ing Data Using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Graphic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izing and Enhancing the Exce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ourse Outlin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.</cp:lastModifiedBy>
  <dcterms:modified xsi:type="dcterms:W3CDTF">2011-03-15T13:41:18Z</dcterms:modified>
  <cp:revision>241</cp:revision>
  <dc:subject>Courseware Resource Supplement</dc:subject>
  <dc:title>OV-ILT Template –  Content Developer Section</dc:title>
</cp:coreProperties>
</file>