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31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  <a:ea typeface="Times New Roman"/>
              </a:rPr>
              <a:t>Photoshop CS6: Advanced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Working with multiple layer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Working with color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Mask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Vector shap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reative image effect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45:42Z</dcterms:created>
  <dc:creator>Chris Hale</dc:creator>
  <dc:description/>
  <dc:language>en-US</dc:language>
  <cp:lastModifiedBy>Chris Hale</cp:lastModifiedBy>
  <dcterms:modified xsi:type="dcterms:W3CDTF">2012-10-03T16:09:04Z</dcterms:modified>
  <cp:revision>5</cp:revision>
  <dc:subject/>
  <dc:title>Slide 1</dc:title>
</cp:coreProperties>
</file>